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EEA4-A12F-4325-9A50-A2F28C86B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10B-F4F7-4CE1-882A-666C929FD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3D4F-819F-460F-8337-F2A8B4D8A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31DC-321A-4894-A349-9FBC05E2C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22B1-922B-47C1-8DEE-C84EEB5A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562C8-FFC8-4AFE-A40C-867D5EE1B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F1F5B-B5BA-4300-B368-FDAE0A43F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C9C00-1E65-4DB6-833B-C7EE7AD72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F542-3BDD-4EBD-B444-C47A71C6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BEFF-4039-415D-A25A-DB3C5D27E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37D9-F1FE-4C6D-BE16-4DF40041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45AF-6852-45F2-8FE7-ED8E4805B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67D8-348D-4127-80ED-562C6CE1C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D1DE8-5036-418D-A830-C61E13918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22DFF-9D65-4883-85D6-33B378131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CD61-060C-4F2C-B45B-CAC899707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889B-DE47-4FF9-A0EA-7CF056D6A4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65569B-4A66-43FF-ADC0-DA1601EB3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585E2-7DA1-4F32-8A85-6EEE978BC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C0FBE6-DC5E-4D4E-81AD-4C3D27343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6F6CC1-B2AA-42E5-816D-67C35069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0FB73-95AA-49BD-A3F7-A99C6189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370E-32C9-4CC2-8D6E-FA7FDDD3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239366-54D8-49DD-ABE1-16042EFF7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9967F1-C947-452F-9531-63ADD77F2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28F380-56DC-47C1-BDA6-E32538E7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08B5CC-BB68-4228-9FE5-C6AB90E66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408D7-0B5C-4E00-B9BD-B3F8169B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AF6E1-0121-4ABF-8F15-471A3594F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5D6B63-EDD6-4ED3-9168-053F1E62E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92A678-A9B8-4CBF-B638-2EFEFB9C3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4F131-4E27-40FF-99B2-68BF81360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9C128-AF7C-4B46-8DBC-0F8FB9AE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93DE-407B-4DA4-88F6-D26658F02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A2C06-3DD6-46F1-9439-856C6B0F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36459-6290-4587-9FDA-62EE3DFAD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032699-7A05-4B4F-948E-40E082AB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C9B25B-DEBE-4C66-A2E8-65F793D4B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7CEC3E-913D-4C5E-9B0A-41C3A269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F55D9-2876-440E-80F8-991BBAD4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589AB1-5132-4B63-820C-F4220C75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D3856-2E03-4D14-B8A8-76E253B5E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D0D06-D06A-407D-80DB-7D3B2BCDB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0DF16-37F9-47C4-AEB5-180BCB82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FF6F-5C4B-4693-94D7-504A48708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E10-522E-46A0-BEB8-307F4350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4912-A867-4D9E-9E4B-869F222C1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006D-DF78-4928-A671-5659B84A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420c"/>
            </a:gs>
            <a:gs pos="100000">
              <a:srgbClr val="f4a16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3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4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333B8-351E-44BE-A630-68A341E3FC54}" type="slidenum"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420c"/>
            </a:gs>
            <a:gs pos="100000">
              <a:srgbClr val="f4a16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2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4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F317A-65E3-4220-84CB-3A2EAF0A7BFA}" type="slidenum"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420c"/>
            </a:gs>
            <a:gs pos="100000">
              <a:srgbClr val="f4a16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2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3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4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6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7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B473-FBB9-497C-BE7A-CC0097586130}" type="slidenum"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d420c"/>
            </a:gs>
            <a:gs pos="100000">
              <a:srgbClr val="f4a16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2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4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8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9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34B1-23FA-4CFB-A21F-3E01A9444BAA}" type="slidenum"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approfondimenti%20a14.pdf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5600" y="2009520"/>
            <a:ext cx="882504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br>
              <a:rPr sz="7200"/>
            </a:br>
            <a:r>
              <a:rPr b="1" lang="it-IT" sz="7200" spc="-1" strike="noStrike">
                <a:solidFill>
                  <a:srgbClr val="ebebeb"/>
                </a:solidFill>
                <a:latin typeface="Corbel"/>
              </a:rPr>
              <a:t>VALUTARE LE COMPETENZE, VALUTARE PER LE COMPETENZE</a:t>
            </a: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155600" y="5573880"/>
            <a:ext cx="882504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8ad0d6"/>
                </a:solidFill>
                <a:latin typeface="Century Gothic"/>
              </a:rPr>
              <a:t>A CURA DI LUISELLA LUCAT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Le rubriche di valutazion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2" name="Rettangolo 3"/>
          <p:cNvSpPr/>
          <p:nvPr/>
        </p:nvSpPr>
        <p:spPr>
          <a:xfrm>
            <a:off x="1136520" y="1415880"/>
            <a:ext cx="8390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Esempio di rubrica olistica (2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(Da Re, </a:t>
            </a:r>
            <a:r>
              <a:rPr b="0" i="1" lang="it-IT" sz="1800" spc="-1" strike="noStrike">
                <a:solidFill>
                  <a:srgbClr val="ffffff"/>
                </a:solidFill>
                <a:latin typeface="Century Gothic"/>
              </a:rPr>
              <a:t>Rubriche per la guida all’osservazione, la valutazione, la certificazione delle competenze…</a:t>
            </a: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, 2015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3" name="Immagine 4" descr="Intestazione Profilo 3 media Da Re.jpg"/>
          <p:cNvPicPr/>
          <p:nvPr/>
        </p:nvPicPr>
        <p:blipFill>
          <a:blip r:embed="rId1"/>
          <a:srcRect l="0" t="0" r="0" b="7407"/>
          <a:stretch/>
        </p:blipFill>
        <p:spPr>
          <a:xfrm>
            <a:off x="1136520" y="2583000"/>
            <a:ext cx="9180720" cy="650880"/>
          </a:xfrm>
          <a:prstGeom prst="rect">
            <a:avLst/>
          </a:prstGeom>
          <a:ln w="0">
            <a:noFill/>
          </a:ln>
        </p:spPr>
      </p:pic>
      <p:pic>
        <p:nvPicPr>
          <p:cNvPr id="254" name="Immagine 5" descr="Profilo 3 media Da Re.jpg"/>
          <p:cNvPicPr/>
          <p:nvPr/>
        </p:nvPicPr>
        <p:blipFill>
          <a:blip r:embed="rId2"/>
          <a:stretch/>
        </p:blipFill>
        <p:spPr>
          <a:xfrm>
            <a:off x="1192320" y="3233880"/>
            <a:ext cx="9070920" cy="34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Le rubriche di valutazion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6" name="Rettangolo 2"/>
          <p:cNvSpPr/>
          <p:nvPr/>
        </p:nvSpPr>
        <p:spPr>
          <a:xfrm>
            <a:off x="800640" y="1468440"/>
            <a:ext cx="59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entury Gothic"/>
              </a:rPr>
              <a:t>Esempio di rubrica analitica (1a) </a:t>
            </a: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(Castoldi ,2009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7" name="Immagine 3" descr="Rubrica lettura Castoldi 001.jpg"/>
          <p:cNvPicPr/>
          <p:nvPr/>
        </p:nvPicPr>
        <p:blipFill>
          <a:blip r:embed="rId1"/>
          <a:srcRect l="6642" t="10102" r="5197" b="60502"/>
          <a:stretch/>
        </p:blipFill>
        <p:spPr>
          <a:xfrm>
            <a:off x="890640" y="1884240"/>
            <a:ext cx="10396440" cy="45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Le rubriche di valutazion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9" name="Rettangolo 2"/>
          <p:cNvSpPr/>
          <p:nvPr/>
        </p:nvSpPr>
        <p:spPr>
          <a:xfrm>
            <a:off x="677160" y="1668600"/>
            <a:ext cx="554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entury Gothic"/>
              </a:rPr>
              <a:t>Esempio di rubrica analitica (1b) </a:t>
            </a: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(Castoldi ,2009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60" name="Immagine 5" descr="Rubrica lettura Castoldi 001.jpg"/>
          <p:cNvPicPr/>
          <p:nvPr/>
        </p:nvPicPr>
        <p:blipFill>
          <a:blip r:embed="rId1"/>
          <a:srcRect l="6864" t="55253" r="6864" b="19550"/>
          <a:stretch/>
        </p:blipFill>
        <p:spPr>
          <a:xfrm>
            <a:off x="646200" y="2232000"/>
            <a:ext cx="983592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Riferimenti bibliografici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2" name="Rectangle 2"/>
          <p:cNvSpPr/>
          <p:nvPr/>
        </p:nvSpPr>
        <p:spPr>
          <a:xfrm>
            <a:off x="971640" y="1793160"/>
            <a:ext cx="9986760" cy="424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just">
              <a:lnSpc>
                <a:spcPct val="150000"/>
              </a:lnSpc>
              <a:buClr>
                <a:srgbClr val="3f6374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Castoldi M. (2012). </a:t>
            </a:r>
            <a:r>
              <a:rPr b="0" i="1" lang="it-IT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Valutare a scuola</a:t>
            </a:r>
            <a:r>
              <a:rPr b="0" lang="it-IT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. Roma: Carocci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50000"/>
              </a:lnSpc>
              <a:buClr>
                <a:srgbClr val="3f6374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Castoldi M. (2016). </a:t>
            </a:r>
            <a:r>
              <a:rPr b="0" i="1" lang="it-IT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Valutare e certificare le competenze</a:t>
            </a:r>
            <a:r>
              <a:rPr b="0" lang="it-IT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. Roma: Carocci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50000"/>
              </a:lnSpc>
              <a:buClr>
                <a:srgbClr val="3f6374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Comoglio M. (2002). </a:t>
            </a:r>
            <a:r>
              <a:rPr b="0" i="1" lang="it-IT" sz="2000" spc="-1" strike="noStrike">
                <a:solidFill>
                  <a:srgbClr val="ffffff"/>
                </a:solidFill>
                <a:latin typeface="Century Gothic"/>
              </a:rPr>
              <a:t>La valutazione autentica</a:t>
            </a: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. In </a:t>
            </a:r>
            <a:r>
              <a:rPr b="0" i="1" lang="it-IT" sz="2000" spc="-1" strike="noStrike">
                <a:solidFill>
                  <a:srgbClr val="ffffff"/>
                </a:solidFill>
                <a:latin typeface="Century Gothic"/>
              </a:rPr>
              <a:t>Orientamenti Pedagogici, </a:t>
            </a: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49(1), 93-112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50000"/>
              </a:lnSpc>
              <a:buClr>
                <a:srgbClr val="3f6374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Galliani L. (a cura di) (2015). </a:t>
            </a:r>
            <a:r>
              <a:rPr b="0" i="1" lang="it-IT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L’agire valutativo</a:t>
            </a:r>
            <a:r>
              <a:rPr b="0" lang="it-IT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. Brescia: La Scuol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50000"/>
              </a:lnSpc>
              <a:buClr>
                <a:srgbClr val="3f6374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Pellerey M. (2004). </a:t>
            </a:r>
            <a:r>
              <a:rPr b="0" i="1" lang="it-IT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Le competenze individuali ed il Portfolio</a:t>
            </a:r>
            <a:r>
              <a:rPr b="0" lang="it-IT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. Firenze: La Nuova Itali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50000"/>
              </a:lnSpc>
              <a:buClr>
                <a:srgbClr val="3f6374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Trinchero R</a:t>
            </a:r>
            <a:r>
              <a:rPr b="0" i="1" lang="it-IT" sz="20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. Progettazione di prove di valutazione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50000"/>
              </a:lnSpc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200" spc="-1" strike="noStrike" u="sng">
                <a:solidFill>
                  <a:srgbClr val="58c1ba"/>
                </a:solidFill>
                <a:uFillTx/>
                <a:latin typeface="Century Gothic"/>
                <a:hlinkClick r:id="rId1"/>
              </a:rPr>
              <a:t>http://www.farnt.unito.it/tutorb/Moduli/Materiali%20per%20Corso%20A/approfondimenti%20a14.pdf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Principali funzioni della valutazion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142640" y="2057400"/>
            <a:ext cx="4754520" cy="402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100" spc="-1" strike="noStrike">
                <a:solidFill>
                  <a:srgbClr val="ffffff"/>
                </a:solidFill>
                <a:latin typeface="Century Gothic"/>
              </a:rPr>
              <a:t>Sommativa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100" spc="-1" strike="noStrike">
                <a:solidFill>
                  <a:srgbClr val="ffffff"/>
                </a:solidFill>
                <a:latin typeface="Century Gothic"/>
              </a:rPr>
              <a:t>Formativa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793760" y="1898280"/>
            <a:ext cx="6542280" cy="389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mira ad accertare con vari strumenti di verifica il possesso di conoscenze, abilità e competenze, concentrandosi sul prodotto finale dell’insegnamento/ apprendiment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Si concentra sul processo e raccoglie un ventaglio di informazioni che, offerte all’alunno, contribuiscono a sviluppare in lui un’azione di autoorientamento e di autovalutazione.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Freccia a destra con strisce 6"/>
          <p:cNvSpPr/>
          <p:nvPr/>
        </p:nvSpPr>
        <p:spPr>
          <a:xfrm>
            <a:off x="3857760" y="2603520"/>
            <a:ext cx="574560" cy="339840"/>
          </a:xfrm>
          <a:custGeom>
            <a:avLst/>
            <a:gdLst/>
            <a:ahLst/>
            <a:rect l="l" t="t" r="r" b="b"/>
            <a:pathLst>
              <a:path w="574675" h="339725">
                <a:moveTo>
                  <a:pt x="0" y="84931"/>
                </a:moveTo>
                <a:lnTo>
                  <a:pt x="10616" y="84931"/>
                </a:lnTo>
                <a:lnTo>
                  <a:pt x="10616" y="254794"/>
                </a:lnTo>
                <a:lnTo>
                  <a:pt x="0" y="254794"/>
                </a:lnTo>
                <a:lnTo>
                  <a:pt x="0" y="84931"/>
                </a:lnTo>
                <a:close/>
                <a:moveTo>
                  <a:pt x="21233" y="84931"/>
                </a:moveTo>
                <a:lnTo>
                  <a:pt x="42466" y="84931"/>
                </a:lnTo>
                <a:lnTo>
                  <a:pt x="42466" y="254794"/>
                </a:lnTo>
                <a:lnTo>
                  <a:pt x="21233" y="254794"/>
                </a:lnTo>
                <a:lnTo>
                  <a:pt x="21233" y="84931"/>
                </a:lnTo>
                <a:close/>
                <a:moveTo>
                  <a:pt x="53082" y="84931"/>
                </a:moveTo>
                <a:lnTo>
                  <a:pt x="404813" y="84931"/>
                </a:lnTo>
                <a:lnTo>
                  <a:pt x="404813" y="0"/>
                </a:lnTo>
                <a:lnTo>
                  <a:pt x="574675" y="169863"/>
                </a:lnTo>
                <a:lnTo>
                  <a:pt x="404813" y="339725"/>
                </a:lnTo>
                <a:lnTo>
                  <a:pt x="404813" y="254794"/>
                </a:lnTo>
                <a:lnTo>
                  <a:pt x="53082" y="254794"/>
                </a:lnTo>
                <a:lnTo>
                  <a:pt x="53082" y="84931"/>
                </a:lnTo>
                <a:close/>
              </a:path>
            </a:pathLst>
          </a:custGeom>
          <a:solidFill>
            <a:srgbClr val="b0b0b0"/>
          </a:solidFill>
          <a:ln cap="rnd" w="19080">
            <a:solidFill>
              <a:srgbClr val="800c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Freccia a destra con strisce 7"/>
          <p:cNvSpPr/>
          <p:nvPr/>
        </p:nvSpPr>
        <p:spPr>
          <a:xfrm>
            <a:off x="3857760" y="4341960"/>
            <a:ext cx="574560" cy="339480"/>
          </a:xfrm>
          <a:custGeom>
            <a:avLst/>
            <a:gdLst/>
            <a:ahLst/>
            <a:rect l="l" t="t" r="r" b="b"/>
            <a:pathLst>
              <a:path w="574675" h="339725">
                <a:moveTo>
                  <a:pt x="0" y="84931"/>
                </a:moveTo>
                <a:lnTo>
                  <a:pt x="10616" y="84931"/>
                </a:lnTo>
                <a:lnTo>
                  <a:pt x="10616" y="254794"/>
                </a:lnTo>
                <a:lnTo>
                  <a:pt x="0" y="254794"/>
                </a:lnTo>
                <a:lnTo>
                  <a:pt x="0" y="84931"/>
                </a:lnTo>
                <a:close/>
                <a:moveTo>
                  <a:pt x="21233" y="84931"/>
                </a:moveTo>
                <a:lnTo>
                  <a:pt x="42466" y="84931"/>
                </a:lnTo>
                <a:lnTo>
                  <a:pt x="42466" y="254794"/>
                </a:lnTo>
                <a:lnTo>
                  <a:pt x="21233" y="254794"/>
                </a:lnTo>
                <a:lnTo>
                  <a:pt x="21233" y="84931"/>
                </a:lnTo>
                <a:close/>
                <a:moveTo>
                  <a:pt x="53082" y="84931"/>
                </a:moveTo>
                <a:lnTo>
                  <a:pt x="404813" y="84931"/>
                </a:lnTo>
                <a:lnTo>
                  <a:pt x="404813" y="0"/>
                </a:lnTo>
                <a:lnTo>
                  <a:pt x="574675" y="169863"/>
                </a:lnTo>
                <a:lnTo>
                  <a:pt x="404813" y="339725"/>
                </a:lnTo>
                <a:lnTo>
                  <a:pt x="404813" y="254794"/>
                </a:lnTo>
                <a:lnTo>
                  <a:pt x="53082" y="254794"/>
                </a:lnTo>
                <a:lnTo>
                  <a:pt x="53082" y="84931"/>
                </a:lnTo>
                <a:close/>
              </a:path>
            </a:pathLst>
          </a:custGeom>
          <a:solidFill>
            <a:srgbClr val="b0b0b0"/>
          </a:solidFill>
          <a:ln cap="rnd" w="19080">
            <a:solidFill>
              <a:srgbClr val="800c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9694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5400" spc="-1" strike="noStrike">
                <a:solidFill>
                  <a:srgbClr val="ebebeb"/>
                </a:solidFill>
                <a:latin typeface="Century Gothic"/>
              </a:rPr>
              <a:t>Due documenti per valutare</a:t>
            </a:r>
            <a:endParaRPr b="0" lang="en-US" sz="54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853920" y="1957320"/>
            <a:ext cx="487872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828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La </a:t>
            </a: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scheda di valutazione</a:t>
            </a: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18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valuta nel medio period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18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18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1828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La </a:t>
            </a: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scheda di certificazio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18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delle competenze: valuta nel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1828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lungo period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849640" y="1957320"/>
            <a:ext cx="568476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1828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gli esiti degli apprendimenti disciplinari in termini di conoscenze e abilità acquisit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1828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il comportament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1828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1828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1828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descrive i risultati del processo formativo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1828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valuta complessivamente la capacità degli alunni di utilizzare i saperi acquisiti per risolvere problemi in contesti nuovi e compless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1828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Freccia a destra con strisce 5"/>
          <p:cNvSpPr/>
          <p:nvPr/>
        </p:nvSpPr>
        <p:spPr>
          <a:xfrm>
            <a:off x="5445000" y="2571840"/>
            <a:ext cx="574920" cy="339480"/>
          </a:xfrm>
          <a:custGeom>
            <a:avLst/>
            <a:gdLst/>
            <a:ahLst/>
            <a:rect l="l" t="t" r="r" b="b"/>
            <a:pathLst>
              <a:path w="574675" h="339725">
                <a:moveTo>
                  <a:pt x="0" y="84931"/>
                </a:moveTo>
                <a:lnTo>
                  <a:pt x="10616" y="84931"/>
                </a:lnTo>
                <a:lnTo>
                  <a:pt x="10616" y="254794"/>
                </a:lnTo>
                <a:lnTo>
                  <a:pt x="0" y="254794"/>
                </a:lnTo>
                <a:lnTo>
                  <a:pt x="0" y="84931"/>
                </a:lnTo>
                <a:close/>
                <a:moveTo>
                  <a:pt x="21233" y="84931"/>
                </a:moveTo>
                <a:lnTo>
                  <a:pt x="42466" y="84931"/>
                </a:lnTo>
                <a:lnTo>
                  <a:pt x="42466" y="254794"/>
                </a:lnTo>
                <a:lnTo>
                  <a:pt x="21233" y="254794"/>
                </a:lnTo>
                <a:lnTo>
                  <a:pt x="21233" y="84931"/>
                </a:lnTo>
                <a:close/>
                <a:moveTo>
                  <a:pt x="53082" y="84931"/>
                </a:moveTo>
                <a:lnTo>
                  <a:pt x="404813" y="84931"/>
                </a:lnTo>
                <a:lnTo>
                  <a:pt x="404813" y="0"/>
                </a:lnTo>
                <a:lnTo>
                  <a:pt x="574675" y="169863"/>
                </a:lnTo>
                <a:lnTo>
                  <a:pt x="404813" y="339725"/>
                </a:lnTo>
                <a:lnTo>
                  <a:pt x="404813" y="254794"/>
                </a:lnTo>
                <a:lnTo>
                  <a:pt x="53082" y="254794"/>
                </a:lnTo>
                <a:lnTo>
                  <a:pt x="53082" y="84931"/>
                </a:lnTo>
                <a:close/>
              </a:path>
            </a:pathLst>
          </a:custGeom>
          <a:solidFill>
            <a:srgbClr val="b0b0b0"/>
          </a:solidFill>
          <a:ln cap="rnd" w="19080">
            <a:solidFill>
              <a:srgbClr val="800c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Freccia a destra con strisce 6"/>
          <p:cNvSpPr/>
          <p:nvPr/>
        </p:nvSpPr>
        <p:spPr>
          <a:xfrm>
            <a:off x="5562720" y="4181400"/>
            <a:ext cx="574560" cy="339840"/>
          </a:xfrm>
          <a:custGeom>
            <a:avLst/>
            <a:gdLst/>
            <a:ahLst/>
            <a:rect l="l" t="t" r="r" b="b"/>
            <a:pathLst>
              <a:path w="574675" h="339725">
                <a:moveTo>
                  <a:pt x="0" y="84931"/>
                </a:moveTo>
                <a:lnTo>
                  <a:pt x="10616" y="84931"/>
                </a:lnTo>
                <a:lnTo>
                  <a:pt x="10616" y="254794"/>
                </a:lnTo>
                <a:lnTo>
                  <a:pt x="0" y="254794"/>
                </a:lnTo>
                <a:lnTo>
                  <a:pt x="0" y="84931"/>
                </a:lnTo>
                <a:close/>
                <a:moveTo>
                  <a:pt x="21233" y="84931"/>
                </a:moveTo>
                <a:lnTo>
                  <a:pt x="42466" y="84931"/>
                </a:lnTo>
                <a:lnTo>
                  <a:pt x="42466" y="254794"/>
                </a:lnTo>
                <a:lnTo>
                  <a:pt x="21233" y="254794"/>
                </a:lnTo>
                <a:lnTo>
                  <a:pt x="21233" y="84931"/>
                </a:lnTo>
                <a:close/>
                <a:moveTo>
                  <a:pt x="53082" y="84931"/>
                </a:moveTo>
                <a:lnTo>
                  <a:pt x="404813" y="84931"/>
                </a:lnTo>
                <a:lnTo>
                  <a:pt x="404813" y="0"/>
                </a:lnTo>
                <a:lnTo>
                  <a:pt x="574675" y="169863"/>
                </a:lnTo>
                <a:lnTo>
                  <a:pt x="404813" y="339725"/>
                </a:lnTo>
                <a:lnTo>
                  <a:pt x="404813" y="254794"/>
                </a:lnTo>
                <a:lnTo>
                  <a:pt x="53082" y="254794"/>
                </a:lnTo>
                <a:lnTo>
                  <a:pt x="53082" y="84931"/>
                </a:lnTo>
                <a:close/>
              </a:path>
            </a:pathLst>
          </a:custGeom>
          <a:solidFill>
            <a:srgbClr val="757575"/>
          </a:solidFill>
          <a:ln cap="rnd" w="19080">
            <a:solidFill>
              <a:srgbClr val="800c0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400" spc="-1" strike="noStrike">
                <a:solidFill>
                  <a:srgbClr val="ffffff"/>
                </a:solidFill>
                <a:latin typeface="Century Gothic"/>
              </a:rPr>
              <a:t>Componenti della competenza</a:t>
            </a:r>
            <a:br>
              <a:rPr sz="4400"/>
            </a:br>
            <a:endParaRPr b="0" lang="en-US" sz="4400" spc="-1" strike="noStrike">
              <a:solidFill>
                <a:srgbClr val="ebebeb"/>
              </a:solidFill>
              <a:latin typeface="Century Gothic"/>
            </a:endParaRPr>
          </a:p>
        </p:txBody>
      </p:sp>
      <p:grpSp>
        <p:nvGrpSpPr>
          <p:cNvPr id="215" name="Gruppo 23"/>
          <p:cNvGrpSpPr/>
          <p:nvPr/>
        </p:nvGrpSpPr>
        <p:grpSpPr>
          <a:xfrm>
            <a:off x="957240" y="1504800"/>
            <a:ext cx="8783640" cy="5140440"/>
            <a:chOff x="957240" y="1504800"/>
            <a:chExt cx="8783640" cy="5140440"/>
          </a:xfrm>
        </p:grpSpPr>
        <p:sp>
          <p:nvSpPr>
            <p:cNvPr id="216" name="Rettangolo arrotondato 24"/>
            <p:cNvSpPr/>
            <p:nvPr/>
          </p:nvSpPr>
          <p:spPr>
            <a:xfrm>
              <a:off x="957240" y="1504800"/>
              <a:ext cx="8783640" cy="5140440"/>
            </a:xfrm>
            <a:prstGeom prst="roundRect">
              <a:avLst>
                <a:gd name="adj" fmla="val 16667"/>
              </a:avLst>
            </a:prstGeom>
            <a:solidFill>
              <a:srgbClr val="ddd9c3"/>
            </a:solidFill>
            <a:ln w="38160">
              <a:solidFill>
                <a:srgbClr val="98480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7" name="Rettangolo arrotondato 25"/>
            <p:cNvSpPr/>
            <p:nvPr/>
          </p:nvSpPr>
          <p:spPr>
            <a:xfrm>
              <a:off x="5748480" y="4467240"/>
              <a:ext cx="3282840" cy="1916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8480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8" name="Rettangolo arrotondato 26"/>
            <p:cNvSpPr/>
            <p:nvPr/>
          </p:nvSpPr>
          <p:spPr>
            <a:xfrm>
              <a:off x="5748480" y="1679400"/>
              <a:ext cx="3282840" cy="1916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8480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9" name="Rettangolo arrotondato 27"/>
            <p:cNvSpPr/>
            <p:nvPr/>
          </p:nvSpPr>
          <p:spPr>
            <a:xfrm>
              <a:off x="1755720" y="1679400"/>
              <a:ext cx="3282840" cy="1916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8480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0" name="CasellaDiTesto 28"/>
            <p:cNvSpPr/>
            <p:nvPr/>
          </p:nvSpPr>
          <p:spPr>
            <a:xfrm>
              <a:off x="2554200" y="1766520"/>
              <a:ext cx="150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984807"/>
                  </a:solidFill>
                  <a:latin typeface="Calibri"/>
                </a:rPr>
                <a:t>Cognitiva</a:t>
              </a:r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1" name="CasellaDiTesto 29"/>
            <p:cNvSpPr/>
            <p:nvPr/>
          </p:nvSpPr>
          <p:spPr>
            <a:xfrm>
              <a:off x="6635880" y="176652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84807"/>
                  </a:solidFill>
                  <a:latin typeface="Calibri"/>
                </a:rPr>
                <a:t>Operativa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2" name="Ovale 30"/>
            <p:cNvSpPr/>
            <p:nvPr/>
          </p:nvSpPr>
          <p:spPr>
            <a:xfrm>
              <a:off x="6191280" y="2376360"/>
              <a:ext cx="2395440" cy="871560"/>
            </a:xfrm>
            <a:prstGeom prst="ellipse">
              <a:avLst/>
            </a:prstGeom>
            <a:solidFill>
              <a:srgbClr val="c3d69b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SAPER FARE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ABILITA’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3" name="CasellaDiTesto 31"/>
            <p:cNvSpPr/>
            <p:nvPr/>
          </p:nvSpPr>
          <p:spPr>
            <a:xfrm>
              <a:off x="6546960" y="4641840"/>
              <a:ext cx="17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84807"/>
                  </a:solidFill>
                  <a:latin typeface="Calibri"/>
                </a:rPr>
                <a:t>Contestuale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4" name="Ovale 32"/>
            <p:cNvSpPr/>
            <p:nvPr/>
          </p:nvSpPr>
          <p:spPr>
            <a:xfrm>
              <a:off x="6191280" y="5251320"/>
              <a:ext cx="2395440" cy="87156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AGIRE IN SITUAZIONE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5" name="CasellaDiTesto 33"/>
            <p:cNvSpPr/>
            <p:nvPr/>
          </p:nvSpPr>
          <p:spPr>
            <a:xfrm>
              <a:off x="4151160" y="3770280"/>
              <a:ext cx="26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984807"/>
                  </a:solidFill>
                  <a:latin typeface="Calibri"/>
                </a:rPr>
                <a:t>COMPETENZA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6" name="Rettangolo arrotondato 34"/>
            <p:cNvSpPr/>
            <p:nvPr/>
          </p:nvSpPr>
          <p:spPr>
            <a:xfrm>
              <a:off x="1755720" y="4467240"/>
              <a:ext cx="3282840" cy="1916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8480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7" name="CasellaDiTesto 35"/>
            <p:cNvSpPr/>
            <p:nvPr/>
          </p:nvSpPr>
          <p:spPr>
            <a:xfrm>
              <a:off x="1844640" y="4554360"/>
              <a:ext cx="31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84807"/>
                  </a:solidFill>
                  <a:latin typeface="Calibri"/>
                </a:rPr>
                <a:t>Motivazionale- affettiva - metacognitiva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8" name="Ovale 36"/>
            <p:cNvSpPr/>
            <p:nvPr/>
          </p:nvSpPr>
          <p:spPr>
            <a:xfrm>
              <a:off x="2376360" y="5338800"/>
              <a:ext cx="1952640" cy="87156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VOLER AGIRE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9" name="Freccia bidirezionale orizzontale 37"/>
            <p:cNvSpPr/>
            <p:nvPr/>
          </p:nvSpPr>
          <p:spPr>
            <a:xfrm>
              <a:off x="4771800" y="2376360"/>
              <a:ext cx="1242720" cy="260280"/>
            </a:xfrm>
            <a:prstGeom prst="leftRightArrow">
              <a:avLst>
                <a:gd name="adj1" fmla="val 50000"/>
                <a:gd name="adj2" fmla="val 50928"/>
              </a:avLst>
            </a:prstGeom>
            <a:solidFill>
              <a:srgbClr val="eeece1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0" name="Freccia bidirezionale orizzontale 38"/>
            <p:cNvSpPr/>
            <p:nvPr/>
          </p:nvSpPr>
          <p:spPr>
            <a:xfrm>
              <a:off x="4771800" y="5338800"/>
              <a:ext cx="1242720" cy="260280"/>
            </a:xfrm>
            <a:prstGeom prst="leftRightArrow">
              <a:avLst>
                <a:gd name="adj1" fmla="val 50000"/>
                <a:gd name="adj2" fmla="val 50928"/>
              </a:avLst>
            </a:prstGeom>
            <a:solidFill>
              <a:srgbClr val="eeece1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1" name="Freccia bidirezionale orizzontale 39"/>
            <p:cNvSpPr/>
            <p:nvPr/>
          </p:nvSpPr>
          <p:spPr>
            <a:xfrm rot="5400000">
              <a:off x="6736320" y="3854880"/>
              <a:ext cx="1306440" cy="266400"/>
            </a:xfrm>
            <a:prstGeom prst="leftRightArrow">
              <a:avLst>
                <a:gd name="adj1" fmla="val 50000"/>
                <a:gd name="adj2" fmla="val 49154"/>
              </a:avLst>
            </a:prstGeom>
            <a:solidFill>
              <a:srgbClr val="eeece1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2" name="Freccia bidirezionale orizzontale 40"/>
            <p:cNvSpPr/>
            <p:nvPr/>
          </p:nvSpPr>
          <p:spPr>
            <a:xfrm rot="5400000">
              <a:off x="2654640" y="3854880"/>
              <a:ext cx="1306440" cy="266400"/>
            </a:xfrm>
            <a:prstGeom prst="leftRightArrow">
              <a:avLst>
                <a:gd name="adj1" fmla="val 50000"/>
                <a:gd name="adj2" fmla="val 49154"/>
              </a:avLst>
            </a:prstGeom>
            <a:solidFill>
              <a:srgbClr val="eeece1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3" name="Ovale 41"/>
            <p:cNvSpPr/>
            <p:nvPr/>
          </p:nvSpPr>
          <p:spPr>
            <a:xfrm>
              <a:off x="2111040" y="2288880"/>
              <a:ext cx="2571840" cy="958680"/>
            </a:xfrm>
            <a:prstGeom prst="ellipse">
              <a:avLst/>
            </a:prstGeom>
            <a:solidFill>
              <a:srgbClr val="f79646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SAPERE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CONOSCENZE 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23012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Lo sguardo trifocale</a:t>
            </a:r>
            <a:br>
              <a:rPr sz="4200"/>
            </a:br>
            <a:r>
              <a:rPr b="0" lang="it-IT" sz="3200" spc="-1" strike="noStrike">
                <a:solidFill>
                  <a:srgbClr val="ebebeb"/>
                </a:solidFill>
                <a:latin typeface="Century Gothic"/>
              </a:rPr>
              <a:t>Pellerey, 1994; Castoldi, 2009</a:t>
            </a:r>
            <a:endParaRPr b="0" lang="en-US" sz="3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5" name="Rettangolo 3"/>
          <p:cNvSpPr/>
          <p:nvPr/>
        </p:nvSpPr>
        <p:spPr>
          <a:xfrm>
            <a:off x="468360" y="2028960"/>
            <a:ext cx="1092816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Un oggetto complesso, come la competenza, non può essere valutato da un solo punto di vista, richiede un confronto ed una ricostruzione articolata, un’osservazione da molteplici prospettive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Necessitano quindi più punti di vista ricomposti in un quadro d’insiem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LA PROSPETTIVA TRIFOCALE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Freccia in giù 4"/>
          <p:cNvSpPr/>
          <p:nvPr/>
        </p:nvSpPr>
        <p:spPr>
          <a:xfrm>
            <a:off x="5419800" y="4530600"/>
            <a:ext cx="449280" cy="65592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f5e2a9"/>
          </a:solidFill>
          <a:ln cap="rnd" w="19080">
            <a:solidFill>
              <a:srgbClr val="4f2f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309320" y="480960"/>
            <a:ext cx="940428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Il principio della triangolazion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8" name="Triangolo isoscele 2"/>
          <p:cNvSpPr/>
          <p:nvPr/>
        </p:nvSpPr>
        <p:spPr>
          <a:xfrm rot="10800000">
            <a:off x="3930480" y="2619000"/>
            <a:ext cx="3407040" cy="2589120"/>
          </a:xfrm>
          <a:prstGeom prst="triangle">
            <a:avLst>
              <a:gd name="adj" fmla="val 51903"/>
            </a:avLst>
          </a:prstGeom>
          <a:gradFill rotWithShape="0">
            <a:gsLst>
              <a:gs pos="0">
                <a:srgbClr val="385867"/>
              </a:gs>
              <a:gs pos="100000">
                <a:srgbClr val="95b6c5"/>
              </a:gs>
            </a:gsLst>
            <a:lin ang="5400000"/>
          </a:gradFill>
          <a:ln cap="rnd" w="19080">
            <a:solidFill>
              <a:srgbClr val="4f2f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CasellaDiTesto 3"/>
          <p:cNvSpPr/>
          <p:nvPr/>
        </p:nvSpPr>
        <p:spPr>
          <a:xfrm>
            <a:off x="330120" y="1557360"/>
            <a:ext cx="3600360" cy="1739880"/>
          </a:xfrm>
          <a:prstGeom prst="rect">
            <a:avLst/>
          </a:prstGeom>
          <a:noFill/>
          <a:ln w="28440">
            <a:solidFill>
              <a:srgbClr val="4f2f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Century Gothic"/>
              </a:rPr>
              <a:t>POLO SOGGETTIV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entury Gothic"/>
              </a:rPr>
              <a:t>Significati personal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Diari di bordo, autobiografie, strategie autovalutative, resoconti verbal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Rettangolo 4"/>
          <p:cNvSpPr/>
          <p:nvPr/>
        </p:nvSpPr>
        <p:spPr>
          <a:xfrm>
            <a:off x="7413480" y="1608120"/>
            <a:ext cx="4170600" cy="2014200"/>
          </a:xfrm>
          <a:prstGeom prst="rect">
            <a:avLst/>
          </a:prstGeom>
          <a:noFill/>
          <a:ln w="28440">
            <a:solidFill>
              <a:srgbClr val="4f2f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Century Gothic"/>
              </a:rPr>
              <a:t>POLO INTERSOGGETTIV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Protocolli osservativi, questionari, commenti di docenti e genitori, valutazione tra pari, griglie di osservazion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Rettangolo 5"/>
          <p:cNvSpPr/>
          <p:nvPr/>
        </p:nvSpPr>
        <p:spPr>
          <a:xfrm>
            <a:off x="2496960" y="5187960"/>
            <a:ext cx="7220160" cy="1465560"/>
          </a:xfrm>
          <a:prstGeom prst="rect">
            <a:avLst/>
          </a:prstGeom>
          <a:noFill/>
          <a:ln w="28440">
            <a:solidFill>
              <a:srgbClr val="4f2f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i="1" lang="it-IT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i="1" lang="it-IT" sz="1800" spc="-1" strike="noStrike">
                <a:solidFill>
                  <a:srgbClr val="ffffff"/>
                </a:solidFill>
                <a:latin typeface="Century Gothic"/>
              </a:rPr>
              <a:t>POLO OGGETTIVO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            </a:t>
            </a:r>
            <a:r>
              <a:rPr b="0" i="1" lang="it-IT" sz="1800" spc="-1" strike="noStrike">
                <a:solidFill>
                  <a:srgbClr val="ffffff"/>
                </a:solidFill>
                <a:latin typeface="Century Gothic"/>
              </a:rPr>
              <a:t>Evidenze osservabil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Compiti di prestazione, prove di verifica, documentazione dei processi, selezione dei lavor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CasellaDiTesto 7"/>
          <p:cNvSpPr/>
          <p:nvPr/>
        </p:nvSpPr>
        <p:spPr>
          <a:xfrm>
            <a:off x="7337520" y="20653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ffff"/>
                </a:solidFill>
                <a:latin typeface="Century Gothic"/>
              </a:rPr>
              <a:t>Sistema di attese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CasellaDiTesto 8"/>
          <p:cNvSpPr/>
          <p:nvPr/>
        </p:nvSpPr>
        <p:spPr>
          <a:xfrm>
            <a:off x="4757760" y="2602080"/>
            <a:ext cx="1752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Century Gothic"/>
              </a:rPr>
              <a:t>RUBRICA VALUTATIV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IDEA DI COMPETENZ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La Rubrica di Valutazion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5" name="Rettangolo 2"/>
          <p:cNvSpPr/>
          <p:nvPr/>
        </p:nvSpPr>
        <p:spPr>
          <a:xfrm>
            <a:off x="646200" y="1405080"/>
            <a:ext cx="980748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“</a:t>
            </a: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Per </a:t>
            </a:r>
            <a:r>
              <a:rPr b="0" i="1" lang="it-IT" sz="2000" spc="-1" strike="noStrike">
                <a:solidFill>
                  <a:srgbClr val="ffffff"/>
                </a:solidFill>
                <a:latin typeface="Century Gothic"/>
              </a:rPr>
              <a:t>rubrica</a:t>
            </a: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 si intende un prospetto sintetico di descrizione di una competenza utile ad identificare ed esplicitare le aspettative relative ad un certo allievo o ad certo gruppo di allievi”. (Castoldi, 2009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“… </a:t>
            </a: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consiste in una scala di punteggi prefissati ed in una lista di criteri che descrivono ogni punteggio della scala”. (McTighe e Ferrara, 1996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La rubrica dunque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descrive la competenza esplicitando </a:t>
            </a:r>
            <a:r>
              <a:rPr b="1" lang="it-IT" sz="2000" spc="-1" strike="noStrike">
                <a:solidFill>
                  <a:srgbClr val="ffffff"/>
                </a:solidFill>
                <a:latin typeface="Century Gothic"/>
              </a:rPr>
              <a:t>i criteri </a:t>
            </a: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di    valutazio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individua diversi </a:t>
            </a:r>
            <a:r>
              <a:rPr b="1" lang="it-IT" sz="2000" spc="-1" strike="noStrike">
                <a:solidFill>
                  <a:srgbClr val="ffffff"/>
                </a:solidFill>
                <a:latin typeface="Century Gothic"/>
              </a:rPr>
              <a:t>livelli</a:t>
            </a: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 di raggiungimento del criteri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ha una funzione eterovalutativa per il docen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buClr>
                <a:srgbClr val="ffffff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ha una funzione autovalutativa per lo student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Tipologie di Rubriche di valutazion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7" name="Rettangolo 2"/>
          <p:cNvSpPr/>
          <p:nvPr/>
        </p:nvSpPr>
        <p:spPr>
          <a:xfrm>
            <a:off x="495360" y="1647720"/>
            <a:ext cx="100947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Century Gothic"/>
              </a:rPr>
              <a:t>Rubriche olistich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Adottano un’ottica globale, forniscono un’idea complessiva delle prestazioni offrendone una descrizione coordinata senza separare le varie dimensioni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ffffff"/>
                </a:solidFill>
                <a:latin typeface="Century Gothic"/>
              </a:rPr>
              <a:t>Rubriche analitich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Adottano un’ottica analitica, sono articolate in diverse dimensioni e in più componenti costitutive della competenza, favoriscono un’analisi specifica delle prestazioni dello student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(ad. Felisatti da Castoldi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Le rubriche di valutazion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49" name="Rettangolo 2"/>
          <p:cNvSpPr/>
          <p:nvPr/>
        </p:nvSpPr>
        <p:spPr>
          <a:xfrm>
            <a:off x="1204920" y="1852560"/>
            <a:ext cx="3381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Esempio di rubrica olistica (1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Century Gothic"/>
              </a:rPr>
              <a:t>Criterio di qualità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La scuola assicura l’acquisizione di competenze chiave e di cittadinanza degli student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(RAV, Guida all’autovalutazion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50" name="Immagine 3" descr="Noname.jpg"/>
          <p:cNvPicPr/>
          <p:nvPr/>
        </p:nvPicPr>
        <p:blipFill>
          <a:blip r:embed="rId1"/>
          <a:stretch/>
        </p:blipFill>
        <p:spPr>
          <a:xfrm>
            <a:off x="6113520" y="1211400"/>
            <a:ext cx="4497480" cy="54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3T10:39:34Z</dcterms:created>
  <dc:creator>luisella lucato</dc:creator>
  <dc:description/>
  <dc:language>en-US</dc:language>
  <cp:lastModifiedBy>luisella lucato</cp:lastModifiedBy>
  <dcterms:modified xsi:type="dcterms:W3CDTF">2018-11-03T18:30:52Z</dcterms:modified>
  <cp:revision>140</cp:revision>
  <dc:subject/>
  <dc:title>SITOGRAFIA</dc:title>
</cp:coreProperties>
</file>