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8F6A-A5BC-43F7-A0FC-F3467F65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EC42-8CA1-428F-9B62-501D419F6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0055-9CA9-484A-90FC-A0B93FE30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F666-9929-455E-B87D-82FD01882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4A588-48BB-4609-8590-49BC64C3E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9DEAC-DD5A-4E74-8390-D4D872140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9976A-94BD-48A2-B1D6-2E35263B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97C32-2D13-48CC-BB1A-7045AB62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0B26-D828-4399-BC9F-5D3B56C02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A44F-F2B3-4DE5-8A05-985969ACD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6AFEB-1CA3-4E77-B12A-2E7F8D7CE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5DE6-1A61-48CD-AC92-1042CF1F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F5C01-7FB4-4E6F-B5F3-A4B25B42E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D99AF-2908-4D7A-BE5B-5E3056AB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36837-4D5F-4509-8864-D4E0FF998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7DD22-6615-4B7C-A721-9A7E9A9E1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11D3-64A1-4F2E-A97A-FE1FD1C6E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C1144-62F4-4F03-ABD5-C70DA138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E7E625-C8E0-4FB3-8969-BE52F58D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6E06F-AA12-4BB0-939A-2B7294CE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0A4953-4908-4833-BBBB-F95196A4C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2EB14E-C93C-4166-B3FE-2A48D3B7F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D3A9-DBA4-473F-B956-126B6842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3614BC-2A4D-4C86-92F0-E326FD6D1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2DDC62-AA7D-460B-A554-E0ECDB542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6EFF25-2190-4E47-B894-4534520A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7D94A-4B4D-4C68-A1EF-03ACB2342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5FFAC1-CEBA-45D4-AF8A-FFE48CE04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E7DA9-996B-4F05-A632-11E8BD488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5EF2B-6644-4A89-87FE-ADCFCA8EC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75BBCA-7F0E-4D4E-8803-F3ED64735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02C32-72A5-4ECE-B048-223267FE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433E-8740-4A8F-A334-482D5F89F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E42-1451-4A2E-A509-143D3597D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EF4249-1B0D-44DC-B408-21BFF0C7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939B38-7AF8-437C-9246-ADC142D07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C3CC98-CE7D-4C4C-9E80-919CB0E6C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AA0F5D-9C38-482B-9296-BB2470CA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760C89-2E68-4103-B5DA-F0E5C44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515B8D-F277-4144-8AE2-9C207CC8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263570-B61F-494A-B21E-265FB940F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18003-3E2B-4580-9F17-38C95E3DD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12812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153200" y="205236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110304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412812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7153200" y="4244040"/>
            <a:ext cx="288072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775C0A-CAC8-4302-9378-2CE7FA8A7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5604C-1038-467B-8C39-124482A79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45840" y="452160"/>
            <a:ext cx="9404280" cy="64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EE8A-CD37-47AA-9B47-C65892E97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DF6-C766-47C5-9366-42A94684A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687640" y="424404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B9F3C-2801-4EF7-9B1F-878E56269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030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687640" y="2052360"/>
            <a:ext cx="4366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03040" y="4244040"/>
            <a:ext cx="8947080" cy="200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DC32-E22F-426A-B2FE-E1416C04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ac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3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6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68E6E-62FE-453B-B99B-6F31C61AE823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ac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51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52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54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898560" y="971640"/>
            <a:ext cx="80172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“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TextBox 14"/>
          <p:cNvSpPr/>
          <p:nvPr/>
        </p:nvSpPr>
        <p:spPr>
          <a:xfrm>
            <a:off x="9329760" y="2612880"/>
            <a:ext cx="80316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200" spc="-1" strike="noStrike">
                <a:solidFill>
                  <a:srgbClr val="8ad0d6"/>
                </a:solidFill>
                <a:latin typeface="Arial"/>
              </a:rPr>
              <a:t>”</a:t>
            </a:r>
            <a:endParaRPr b="0" lang="en-US" sz="12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2BF25-FFBB-4BE2-AF07-2C38333A849A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ac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02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03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05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Straight Connector 16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Straight Connector 17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28294-E356-4365-A85A-B7231FE47206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aac9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7" descr=""/>
          <p:cNvPicPr/>
          <p:nvPr/>
        </p:nvPicPr>
        <p:blipFill>
          <a:blip r:embed="rId2"/>
          <a:srcRect l="3610" t="0" r="0" b="0"/>
          <a:stretch/>
        </p:blipFill>
        <p:spPr>
          <a:xfrm>
            <a:off x="0" y="2670120"/>
            <a:ext cx="4037040" cy="4187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"/>
          <p:cNvPicPr/>
          <p:nvPr/>
        </p:nvPicPr>
        <p:blipFill>
          <a:blip r:embed="rId3"/>
          <a:srcRect l="35647" t="0" r="0" b="0"/>
          <a:stretch/>
        </p:blipFill>
        <p:spPr>
          <a:xfrm>
            <a:off x="0" y="2892600"/>
            <a:ext cx="1522440" cy="2365200"/>
          </a:xfrm>
          <a:prstGeom prst="rect">
            <a:avLst/>
          </a:prstGeom>
          <a:ln w="0">
            <a:noFill/>
          </a:ln>
        </p:spPr>
      </p:pic>
      <p:grpSp>
        <p:nvGrpSpPr>
          <p:cNvPr id="153" name="Oval 15"/>
          <p:cNvGrpSpPr/>
          <p:nvPr/>
        </p:nvGrpSpPr>
        <p:grpSpPr>
          <a:xfrm>
            <a:off x="8607600" y="1676520"/>
            <a:ext cx="2822400" cy="2822400"/>
            <a:chOff x="8607600" y="1676520"/>
            <a:chExt cx="2822400" cy="2822400"/>
          </a:xfrm>
        </p:grpSpPr>
        <p:pic>
          <p:nvPicPr>
            <p:cNvPr id="154" name="Oval 15" descr=""/>
            <p:cNvPicPr/>
            <p:nvPr/>
          </p:nvPicPr>
          <p:blipFill>
            <a:blip r:embed="rId4"/>
            <a:stretch/>
          </p:blipFill>
          <p:spPr>
            <a:xfrm>
              <a:off x="8607600" y="1676520"/>
              <a:ext cx="2822400" cy="282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9021600" y="2089080"/>
              <a:ext cx="1994040" cy="199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pic>
        <p:nvPicPr>
          <p:cNvPr id="156" name="Picture 8" descr=""/>
          <p:cNvPicPr/>
          <p:nvPr/>
        </p:nvPicPr>
        <p:blipFill>
          <a:blip r:embed="rId5"/>
          <a:srcRect l="0" t="28812" r="0" b="0"/>
          <a:stretch/>
        </p:blipFill>
        <p:spPr>
          <a:xfrm>
            <a:off x="7999560" y="0"/>
            <a:ext cx="1603080" cy="114156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9" descr=""/>
          <p:cNvPicPr/>
          <p:nvPr/>
        </p:nvPicPr>
        <p:blipFill>
          <a:blip r:embed="rId6"/>
          <a:srcRect l="0" t="0" r="0" b="23333"/>
          <a:stretch/>
        </p:blipFill>
        <p:spPr>
          <a:xfrm>
            <a:off x="8605800" y="6095880"/>
            <a:ext cx="993960" cy="7621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3"/>
          <p:cNvSpPr/>
          <p:nvPr/>
        </p:nvSpPr>
        <p:spPr>
          <a:xfrm>
            <a:off x="10437840" y="0"/>
            <a:ext cx="685800" cy="1143000"/>
          </a:xfrm>
          <a:prstGeom prst="rect">
            <a:avLst/>
          </a:prstGeom>
          <a:solidFill>
            <a:srgbClr val="b01513"/>
          </a:solidFill>
          <a:ln w="0">
            <a:noFill/>
          </a:ln>
          <a:effectLst>
            <a:outerShdw dist="12600" dir="54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Straight Connector 18"/>
          <p:cNvSpPr/>
          <p:nvPr/>
        </p:nvSpPr>
        <p:spPr>
          <a:xfrm>
            <a:off x="3726000" y="2133720"/>
            <a:ext cx="0" cy="396216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Straight Connector 19"/>
          <p:cNvSpPr/>
          <p:nvPr/>
        </p:nvSpPr>
        <p:spPr>
          <a:xfrm>
            <a:off x="6962760" y="2133720"/>
            <a:ext cx="0" cy="3967200"/>
          </a:xfrm>
          <a:prstGeom prst="line">
            <a:avLst/>
          </a:prstGeom>
          <a:ln cap="rnd" w="12600">
            <a:solidFill>
              <a:srgbClr val="8ad0d6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200" spc="-1" strike="noStrike">
                <a:solidFill>
                  <a:srgbClr val="ebebeb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103040" y="2052360"/>
            <a:ext cx="8947080" cy="41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10"/>
          </p:nvPr>
        </p:nvSpPr>
        <p:spPr>
          <a:xfrm rot="5400000">
            <a:off x="10155240" y="1790280"/>
            <a:ext cx="9903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11"/>
          </p:nvPr>
        </p:nvSpPr>
        <p:spPr>
          <a:xfrm rot="5400000">
            <a:off x="8951040" y="3224880"/>
            <a:ext cx="38592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10352160" y="294840"/>
            <a:ext cx="838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6FBA-C5D3-410A-8850-2801FBF0676D}" type="slidenum"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55600" y="1447560"/>
            <a:ext cx="8825040" cy="3328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7200" spc="-1" strike="noStrike">
                <a:solidFill>
                  <a:srgbClr val="ebebeb"/>
                </a:solidFill>
                <a:latin typeface="Century Gothic"/>
              </a:rPr>
              <a:t>Lavorare per competenze</a:t>
            </a:r>
            <a:br>
              <a:rPr sz="7200"/>
            </a:br>
            <a:endParaRPr b="0" lang="en-US" sz="7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1155600" y="4776840"/>
            <a:ext cx="8825040" cy="86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2400" spc="-1" strike="noStrike">
                <a:solidFill>
                  <a:srgbClr val="ffffff"/>
                </a:solidFill>
                <a:latin typeface="Century Gothic"/>
              </a:rPr>
              <a:t>A CURA DI LUISELLA LUCA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  <a:p>
            <a:pPr indent="0" algn="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6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72840" y="439560"/>
            <a:ext cx="94042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Matematica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4" name="Rettangolo 2"/>
          <p:cNvSpPr/>
          <p:nvPr/>
        </p:nvSpPr>
        <p:spPr>
          <a:xfrm>
            <a:off x="851040" y="1530360"/>
            <a:ext cx="976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Utilizzare le tecniche e le procedure del calcolo aritmetico ed algebrico, rappresentandole anche sotto forma grafic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Confrontare ed analizzare figure geometriche, individuando invarianti e relazioni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Individuare le strategie appropriate per la soluzione di problemi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Analizzare dati e interpretarli sviluppando deduzioni e ragionamenti sugli stessi anche con l’ausilio di rappresentazioni grafiche, usando consapevolmente gli strumenti di calcolo e le potenzialità offerte da applicazioni specifiche di tipo informatico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120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Competenza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642960" y="1164960"/>
            <a:ext cx="10904400" cy="494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entury Gothic"/>
              </a:rPr>
              <a:t>«Competenze: comprovata capacità di utilizzare conoscenze, abilità e capacità personali, sociali e/o metodologiche, in situazioni di lavoro o di studio e nello sviluppo professionale e personale. Le competenze sono descritte in termini di responsabilità e autonomia"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Century Gothic"/>
              </a:rPr>
              <a:t>Raccomandazioni del Parlamento Europeo, 2006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600" spc="-1" strike="noStrike">
                <a:solidFill>
                  <a:srgbClr val="ffffff"/>
                </a:solidFill>
                <a:latin typeface="Century Gothic"/>
              </a:rPr>
              <a:t>La capacità di far fronte a un compito, o a un insieme di compiti, riuscendo a mettere in moto o a orchestrare le proprie risorse interne, cognitive, affettive e volitive, e a utilizzare quelle esterne disponibili in modo coerente e fecondo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Pellerey M., </a:t>
            </a:r>
            <a:r>
              <a:rPr b="0" i="1" lang="it-IT" sz="2000" spc="-1" strike="noStrike">
                <a:solidFill>
                  <a:srgbClr val="ffffff"/>
                </a:solidFill>
                <a:latin typeface="Century Gothic"/>
              </a:rPr>
              <a:t>Le competenze individuali e il portfolio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, Milano, La Nuova Italia, 2004, p. 12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46200" y="452160"/>
            <a:ext cx="99043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L’Iceberg della competenza</a:t>
            </a:r>
            <a:br>
              <a:rPr sz="4800"/>
            </a:br>
            <a:r>
              <a:rPr b="1" lang="it-IT" sz="2000" spc="-1" strike="noStrike">
                <a:solidFill>
                  <a:srgbClr val="ebebeb"/>
                </a:solidFill>
                <a:latin typeface="Century Gothic"/>
                <a:ea typeface="Arial"/>
              </a:rPr>
              <a:t>(Castoldi 2009, da Lule M. SPENCER e Signe M. SPENCER )</a:t>
            </a:r>
            <a:endParaRPr b="0" lang="en-US" sz="20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228" name="Gruppo 4"/>
          <p:cNvGrpSpPr/>
          <p:nvPr/>
        </p:nvGrpSpPr>
        <p:grpSpPr>
          <a:xfrm>
            <a:off x="1531800" y="1622520"/>
            <a:ext cx="8307360" cy="5065560"/>
            <a:chOff x="1531800" y="1622520"/>
            <a:chExt cx="8307360" cy="5065560"/>
          </a:xfrm>
        </p:grpSpPr>
        <p:pic>
          <p:nvPicPr>
            <p:cNvPr id="229" name="Immagine 5" descr="iceberg_castoldi.png"/>
            <p:cNvPicPr/>
            <p:nvPr/>
          </p:nvPicPr>
          <p:blipFill>
            <a:blip r:embed="rId1"/>
            <a:stretch/>
          </p:blipFill>
          <p:spPr>
            <a:xfrm>
              <a:off x="1531800" y="1622520"/>
              <a:ext cx="8307360" cy="506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CasellaDiTesto 6"/>
            <p:cNvSpPr/>
            <p:nvPr/>
          </p:nvSpPr>
          <p:spPr>
            <a:xfrm>
              <a:off x="6719040" y="2347920"/>
              <a:ext cx="1632240" cy="489960"/>
            </a:xfrm>
            <a:prstGeom prst="rect">
              <a:avLst/>
            </a:prstGeom>
            <a:noFill/>
            <a:ln w="12600">
              <a:solidFill>
                <a:srgbClr val="5959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595959"/>
                  </a:solidFill>
                  <a:latin typeface="Arial"/>
                  <a:ea typeface="Arial"/>
                </a:rPr>
                <a:t>CHE COSA SI APPRENDE?</a:t>
              </a:r>
              <a:endParaRPr b="0" lang="en-US" sz="13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1" name="Rettangolo 7"/>
            <p:cNvSpPr/>
            <p:nvPr/>
          </p:nvSpPr>
          <p:spPr>
            <a:xfrm>
              <a:off x="6976800" y="3844800"/>
              <a:ext cx="1547280" cy="4899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300" spc="-1" strike="noStrike">
                  <a:solidFill>
                    <a:srgbClr val="ffffff"/>
                  </a:solidFill>
                  <a:latin typeface="Arial"/>
                  <a:ea typeface="Arial"/>
                </a:rPr>
                <a:t>COME SI APPRENDE?</a:t>
              </a:r>
              <a:endParaRPr b="0" lang="en-US" sz="13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75204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Century Gothic"/>
              </a:rPr>
              <a:t>Componenti della competenza</a:t>
            </a:r>
            <a:br>
              <a:rPr sz="4800"/>
            </a:b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grpSp>
        <p:nvGrpSpPr>
          <p:cNvPr id="233" name="Gruppo 23"/>
          <p:cNvGrpSpPr/>
          <p:nvPr/>
        </p:nvGrpSpPr>
        <p:grpSpPr>
          <a:xfrm>
            <a:off x="1039680" y="1650960"/>
            <a:ext cx="8783640" cy="5140440"/>
            <a:chOff x="1039680" y="1650960"/>
            <a:chExt cx="8783640" cy="5140440"/>
          </a:xfrm>
        </p:grpSpPr>
        <p:sp>
          <p:nvSpPr>
            <p:cNvPr id="234" name="Rettangolo arrotondato 24"/>
            <p:cNvSpPr/>
            <p:nvPr/>
          </p:nvSpPr>
          <p:spPr>
            <a:xfrm>
              <a:off x="1039680" y="1650960"/>
              <a:ext cx="8783640" cy="5140440"/>
            </a:xfrm>
            <a:prstGeom prst="roundRect">
              <a:avLst>
                <a:gd name="adj" fmla="val 16667"/>
              </a:avLst>
            </a:prstGeom>
            <a:solidFill>
              <a:srgbClr val="ddd9c3"/>
            </a:solidFill>
            <a:ln w="381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5" name="Rettangolo arrotondato 25"/>
            <p:cNvSpPr/>
            <p:nvPr/>
          </p:nvSpPr>
          <p:spPr>
            <a:xfrm>
              <a:off x="5830920" y="4613400"/>
              <a:ext cx="3282840" cy="1916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6" name="Rettangolo arrotondato 26"/>
            <p:cNvSpPr/>
            <p:nvPr/>
          </p:nvSpPr>
          <p:spPr>
            <a:xfrm>
              <a:off x="5830920" y="1825560"/>
              <a:ext cx="3282840" cy="1916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7" name="Rettangolo arrotondato 27"/>
            <p:cNvSpPr/>
            <p:nvPr/>
          </p:nvSpPr>
          <p:spPr>
            <a:xfrm>
              <a:off x="1838160" y="1825560"/>
              <a:ext cx="3282840" cy="1916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8" name="CasellaDiTesto 28"/>
            <p:cNvSpPr/>
            <p:nvPr/>
          </p:nvSpPr>
          <p:spPr>
            <a:xfrm>
              <a:off x="2636640" y="1912680"/>
              <a:ext cx="1508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984807"/>
                  </a:solidFill>
                  <a:latin typeface="Calibri"/>
                </a:rPr>
                <a:t>Cognitiva</a:t>
              </a:r>
              <a:endParaRPr b="0" lang="en-US" sz="20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39" name="CasellaDiTesto 29"/>
            <p:cNvSpPr/>
            <p:nvPr/>
          </p:nvSpPr>
          <p:spPr>
            <a:xfrm>
              <a:off x="6718320" y="1912680"/>
              <a:ext cx="1419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84807"/>
                  </a:solidFill>
                  <a:latin typeface="Calibri"/>
                </a:rPr>
                <a:t>Operativa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0" name="Ovale 30"/>
            <p:cNvSpPr/>
            <p:nvPr/>
          </p:nvSpPr>
          <p:spPr>
            <a:xfrm>
              <a:off x="6273720" y="2522520"/>
              <a:ext cx="2395440" cy="871560"/>
            </a:xfrm>
            <a:prstGeom prst="ellipse">
              <a:avLst/>
            </a:prstGeom>
            <a:solidFill>
              <a:srgbClr val="c3d69b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SAPER FAR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ABILITA’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1" name="CasellaDiTesto 31"/>
            <p:cNvSpPr/>
            <p:nvPr/>
          </p:nvSpPr>
          <p:spPr>
            <a:xfrm>
              <a:off x="6629400" y="4788000"/>
              <a:ext cx="177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84807"/>
                  </a:solidFill>
                  <a:latin typeface="Calibri"/>
                </a:rPr>
                <a:t>Contestual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2" name="Ovale 32"/>
            <p:cNvSpPr/>
            <p:nvPr/>
          </p:nvSpPr>
          <p:spPr>
            <a:xfrm>
              <a:off x="6273720" y="5397480"/>
              <a:ext cx="2395440" cy="871560"/>
            </a:xfrm>
            <a:prstGeom prst="ellipse">
              <a:avLst/>
            </a:prstGeom>
            <a:solidFill>
              <a:srgbClr val="c6d9f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AGIRE IN SITUAZION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3" name="CasellaDiTesto 33"/>
            <p:cNvSpPr/>
            <p:nvPr/>
          </p:nvSpPr>
          <p:spPr>
            <a:xfrm>
              <a:off x="4233600" y="3916440"/>
              <a:ext cx="266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984807"/>
                  </a:solidFill>
                  <a:latin typeface="Calibri"/>
                </a:rPr>
                <a:t>COMPETENZA</a:t>
              </a:r>
              <a:endParaRPr b="0" lang="en-US" sz="2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4" name="Rettangolo arrotondato 34"/>
            <p:cNvSpPr/>
            <p:nvPr/>
          </p:nvSpPr>
          <p:spPr>
            <a:xfrm>
              <a:off x="1838160" y="4613400"/>
              <a:ext cx="3282840" cy="19162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984807"/>
              </a:solidFill>
              <a:miter/>
            </a:ln>
            <a:effectLst>
              <a:outerShdw dist="38183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5" name="CasellaDiTesto 35"/>
            <p:cNvSpPr/>
            <p:nvPr/>
          </p:nvSpPr>
          <p:spPr>
            <a:xfrm>
              <a:off x="1927080" y="4700520"/>
              <a:ext cx="31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984807"/>
                  </a:solidFill>
                  <a:latin typeface="Calibri"/>
                </a:rPr>
                <a:t>Motivazionale- affettiva - metacognitiva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6" name="Ovale 36"/>
            <p:cNvSpPr/>
            <p:nvPr/>
          </p:nvSpPr>
          <p:spPr>
            <a:xfrm>
              <a:off x="2458800" y="5484960"/>
              <a:ext cx="1952640" cy="871560"/>
            </a:xfrm>
            <a:prstGeom prst="ellipse">
              <a:avLst/>
            </a:prstGeom>
            <a:solidFill>
              <a:srgbClr val="f2dcdb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VOLER AGIR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7" name="Freccia bidirezionale orizzontale 37"/>
            <p:cNvSpPr/>
            <p:nvPr/>
          </p:nvSpPr>
          <p:spPr>
            <a:xfrm>
              <a:off x="4854240" y="2522520"/>
              <a:ext cx="1242720" cy="260280"/>
            </a:xfrm>
            <a:prstGeom prst="leftRightArrow">
              <a:avLst>
                <a:gd name="adj1" fmla="val 50000"/>
                <a:gd name="adj2" fmla="val 50928"/>
              </a:avLst>
            </a:prstGeom>
            <a:solidFill>
              <a:srgbClr val="eeece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8" name="Freccia bidirezionale orizzontale 38"/>
            <p:cNvSpPr/>
            <p:nvPr/>
          </p:nvSpPr>
          <p:spPr>
            <a:xfrm>
              <a:off x="4854240" y="5484960"/>
              <a:ext cx="1242720" cy="260280"/>
            </a:xfrm>
            <a:prstGeom prst="leftRightArrow">
              <a:avLst>
                <a:gd name="adj1" fmla="val 50000"/>
                <a:gd name="adj2" fmla="val 50928"/>
              </a:avLst>
            </a:prstGeom>
            <a:solidFill>
              <a:srgbClr val="eeece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49" name="Freccia bidirezionale orizzontale 39"/>
            <p:cNvSpPr/>
            <p:nvPr/>
          </p:nvSpPr>
          <p:spPr>
            <a:xfrm rot="5400000">
              <a:off x="6818760" y="4001040"/>
              <a:ext cx="1306440" cy="266400"/>
            </a:xfrm>
            <a:prstGeom prst="leftRightArrow">
              <a:avLst>
                <a:gd name="adj1" fmla="val 50000"/>
                <a:gd name="adj2" fmla="val 49154"/>
              </a:avLst>
            </a:prstGeom>
            <a:solidFill>
              <a:srgbClr val="eeece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50" name="Freccia bidirezionale orizzontale 40"/>
            <p:cNvSpPr/>
            <p:nvPr/>
          </p:nvSpPr>
          <p:spPr>
            <a:xfrm rot="5400000">
              <a:off x="2737080" y="4001040"/>
              <a:ext cx="1306440" cy="266400"/>
            </a:xfrm>
            <a:prstGeom prst="leftRightArrow">
              <a:avLst>
                <a:gd name="adj1" fmla="val 50000"/>
                <a:gd name="adj2" fmla="val 49154"/>
              </a:avLst>
            </a:prstGeom>
            <a:solidFill>
              <a:srgbClr val="eeece1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251" name="Ovale 41"/>
            <p:cNvSpPr/>
            <p:nvPr/>
          </p:nvSpPr>
          <p:spPr>
            <a:xfrm>
              <a:off x="2193480" y="2435040"/>
              <a:ext cx="2571840" cy="958680"/>
            </a:xfrm>
            <a:prstGeom prst="ellipse">
              <a:avLst/>
            </a:prstGeom>
            <a:solidFill>
              <a:srgbClr val="f79646"/>
            </a:solidFill>
            <a:ln w="25560">
              <a:solidFill>
                <a:srgbClr val="9848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SAPERE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000000"/>
                  </a:solidFill>
                  <a:latin typeface="Calibri"/>
                </a:rPr>
                <a:t>CONOSCENZE </a:t>
              </a:r>
              <a:endParaRPr b="0" lang="en-US" sz="18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Sviluppo di una competenza </a:t>
            </a:r>
            <a:r>
              <a:rPr b="0" i="1" lang="it-IT" sz="4400" spc="-1" strike="noStrike">
                <a:solidFill>
                  <a:srgbClr val="ebebeb"/>
                </a:solidFill>
                <a:latin typeface="Century Gothic"/>
              </a:rPr>
              <a:t>(Pellerey)</a:t>
            </a:r>
            <a:r>
              <a:rPr b="0" i="1" lang="it-IT" sz="4200" spc="-1" strike="noStrike">
                <a:solidFill>
                  <a:srgbClr val="ebebeb"/>
                </a:solidFill>
                <a:latin typeface="Century Gothic"/>
              </a:rPr>
              <a:t> 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3" name="Rettangolo 2"/>
          <p:cNvSpPr/>
          <p:nvPr/>
        </p:nvSpPr>
        <p:spPr>
          <a:xfrm>
            <a:off x="282600" y="1971720"/>
            <a:ext cx="1039320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possedere in maniera significativa, stabile e fruibile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concetti e quadri concettuali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aver raggiunto adeguate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abilità intellettuali e pratiche 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sapendo come, quando e perché valorizzarle;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algn="just">
              <a:lnSpc>
                <a:spcPct val="90000"/>
              </a:lnSpc>
              <a:buClr>
                <a:srgbClr val="ffffff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disporre di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adeguati significati, valori, motivazioni, 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atteggiamenti, concezioni di sé e forme di rapporto con il sapere da acquisire, capacità di concentrazione e di perseveranza nel portare a termine gli impegni, ecc..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L’insegnamento significativo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878040" y="2155680"/>
            <a:ext cx="10455120" cy="470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4000" spc="-1" strike="noStrike">
                <a:solidFill>
                  <a:srgbClr val="ffffff"/>
                </a:solidFill>
                <a:latin typeface="Century Gothic"/>
              </a:rPr>
              <a:t>Entro tale ispirazione la scuola attribuisce grande importanza alla  relazione educativa e ai metodi didattici capaci di attivare pienamente  le energie e le potenzialità di ogni studente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Progettazione per competenze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7" name="Rettangolo 2"/>
          <p:cNvSpPr/>
          <p:nvPr/>
        </p:nvSpPr>
        <p:spPr>
          <a:xfrm>
            <a:off x="1260360" y="1270080"/>
            <a:ext cx="980928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Essere condivis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Legata al contest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Deve fare riferimento al real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Creare un ambiente di apprendimento autentic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Porre obiettivi verificabili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Century Gothic"/>
              </a:rPr>
              <a:t>Prevedere l’uso di strumenti di valutazione autentica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La didattica per competenze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59" name="Rettangolo 2"/>
          <p:cNvSpPr/>
          <p:nvPr/>
        </p:nvSpPr>
        <p:spPr>
          <a:xfrm>
            <a:off x="387360" y="1444680"/>
            <a:ext cx="11280600" cy="50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94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Centralità del discente e del processo di apprendime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4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Docente come mediatore e facilitato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4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ssunzione di responsabilità educativa del docente/educator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4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Flessibilità didattica: utilizzo di mediatori diversi e flessibili (attivi, iconici, analogici, simbolic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4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pprendimento sociale: peer‐tutoring, laboratorialità, approccio collaborativo; apprendimento sociale in contesto significativo, discussi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4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Integrazione dei saperi che insieme concorrono a costruire competenze attraverso l’esperienza e la riflessione nei compiti significativi e nelle unità di apprendime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94000"/>
              </a:lnSpc>
              <a:spcAft>
                <a:spcPts val="7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Valorizzazione dell’esperienza attiva, concreta, in contesti significativi veri o verosimili dell’alliev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2080" y="18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La didattica per competenze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1" name="Rettangolo 2"/>
          <p:cNvSpPr/>
          <p:nvPr/>
        </p:nvSpPr>
        <p:spPr>
          <a:xfrm>
            <a:off x="434880" y="1152360"/>
            <a:ext cx="10728360" cy="46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3000"/>
              </a:lnSpc>
              <a:spcAft>
                <a:spcPts val="1675"/>
              </a:spcAft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ttenzione ai processi metodologici e strategici e alla dimensione relazionale e disposiziona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3000"/>
              </a:lnSpc>
              <a:spcAft>
                <a:spcPts val="1675"/>
              </a:spcAft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cquisizione di una modalità riflessiva per rappresentare l’esperienza, attribuirle significato, acquisire metacognizio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3000"/>
              </a:lnSpc>
              <a:spcAft>
                <a:spcPts val="1624"/>
              </a:spcAft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ttenzione agli aspetti affettivo‐emotivi dell’apprendime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lnSpc>
                <a:spcPct val="103000"/>
              </a:lnSpc>
              <a:spcAft>
                <a:spcPts val="1675"/>
              </a:spcAft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ttribuzione di autonomia e responsabilità all’allievo attraverso i compiti significativi e le unità di apprendime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Aft>
                <a:spcPts val="788"/>
              </a:spcAft>
              <a:buClr>
                <a:srgbClr val="000000"/>
              </a:buClr>
              <a:buSzPct val="9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  <a:ea typeface="Arial"/>
              </a:rPr>
              <a:t>Anche nella quotidianità e nella «didattica ordinaria» è opportuno problematizzare, coinvolgere gli allievi, contestualizzare nell’esperienza, dare senso all’apprendiment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Tecniche e strumenti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3" name="Rettangolo 2"/>
          <p:cNvSpPr/>
          <p:nvPr/>
        </p:nvSpPr>
        <p:spPr>
          <a:xfrm>
            <a:off x="225360" y="1403280"/>
            <a:ext cx="1117116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675"/>
              </a:spcAft>
              <a:buClr>
                <a:srgbClr val="ffffff"/>
              </a:buClr>
              <a:buSzPct val="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Lavoro di gruppo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675"/>
              </a:spcAft>
              <a:buClr>
                <a:srgbClr val="ffffff"/>
              </a:buClr>
              <a:buSzPct val="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Laboratorialità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3000"/>
              </a:lnSpc>
              <a:spcAft>
                <a:spcPts val="799"/>
              </a:spcAft>
              <a:buClr>
                <a:srgbClr val="ffffff"/>
              </a:buClr>
              <a:buSzPct val="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Compiti “significativi” 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“di realtà” 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“in situazione” 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o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“autentici” 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(compiti che gli alunni svolgono in autonomia in contesti significativi veri o verosimili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3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7000"/>
              </a:lnSpc>
              <a:spcAft>
                <a:spcPts val="675"/>
              </a:spcAft>
              <a:buClr>
                <a:srgbClr val="ffffff"/>
              </a:buClr>
              <a:buSzPct val="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roblem solving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5840" y="171360"/>
            <a:ext cx="940428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Lo scenario di riferimento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45760" y="1328400"/>
            <a:ext cx="1021068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Agenda ONU 2030 per lo sviluppo sostenibile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Obiettivo 4. Fornire un'educazione di qualità, equa ed inclusiva, e opportunità    di apprendimento per tutt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Quadro europeo delle qualifiche per l’apprendimento permanente - EQF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     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European Qualifications Framework- è un sistema di confronto delle qualifiche professionali dei cittadini dei paesi europei. Ha lo scopo di: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-fornire un linguaggio comune per descrivere le  qualifiche dei diversi sistemi di istruzione e formazione dell’unione Europea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-assicurare la convalida delle esperienze formativ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I risultati vengono definiti in termini di conoscenze, abilità e competenz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Vi sono livelli compresi tra 1 e 8 che descrivono i risultati di apprendimento alla fine del percorso obbligatorio di istruzion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Tecniche e strumenti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5" name="Rettangolo 2"/>
          <p:cNvSpPr/>
          <p:nvPr/>
        </p:nvSpPr>
        <p:spPr>
          <a:xfrm>
            <a:off x="646200" y="1266840"/>
            <a:ext cx="10080360" cy="55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3000"/>
              </a:lnSpc>
              <a:spcAft>
                <a:spcPts val="799"/>
              </a:spcAft>
              <a:buClr>
                <a:srgbClr val="000000"/>
              </a:buClr>
              <a:buSzPct val="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Unità di apprendimento: 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microprogetto, che si concretizza in una compito significativo complesso, interdisciplinare, che mira a sviluppare e incrementare competenze (nonché conoscenze e abilità), attraverso un prodotto. Richiede la gestione di situazioni e la soluzione di problemi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3000"/>
              </a:lnSpc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103000"/>
              </a:lnSpc>
              <a:spcAft>
                <a:spcPts val="799"/>
              </a:spcAft>
              <a:buClr>
                <a:srgbClr val="000000"/>
              </a:buClr>
              <a:buSzPct val="7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rove “esperte” o “autentiche”: </a:t>
            </a:r>
            <a:r>
              <a:rPr b="0" lang="it-IT" sz="2800" spc="-1" strike="noStrike">
                <a:solidFill>
                  <a:srgbClr val="ffffff"/>
                </a:solidFill>
                <a:latin typeface="Century Gothic"/>
                <a:ea typeface="Arial"/>
              </a:rPr>
              <a:t>prove di verifica di competenza. Hanno le stesse caratteristiche dell’UDA, ma servono proprio a verificare la competenza attraverso un compito da affrontare e problemi da risolver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Bibliografia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67" name="Rettangolo 2"/>
          <p:cNvSpPr/>
          <p:nvPr/>
        </p:nvSpPr>
        <p:spPr>
          <a:xfrm>
            <a:off x="1477800" y="49626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Pellerey Michele, Le competenze individuali e il portfolio, Scandicci, La Nuova Italia, 2004.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Rettangolo 6"/>
          <p:cNvSpPr/>
          <p:nvPr/>
        </p:nvSpPr>
        <p:spPr>
          <a:xfrm>
            <a:off x="1477800" y="159876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Castoldi, M. (2011). </a:t>
            </a:r>
            <a:r>
              <a:rPr b="0" i="1" lang="it-IT" sz="1800" spc="-1" strike="noStrike">
                <a:solidFill>
                  <a:srgbClr val="ffffff"/>
                </a:solidFill>
                <a:latin typeface="Century Gothic"/>
              </a:rPr>
              <a:t>Progettare per competenze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. Roma: Carocc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9" name="Rettangolo 7"/>
          <p:cNvSpPr/>
          <p:nvPr/>
        </p:nvSpPr>
        <p:spPr>
          <a:xfrm>
            <a:off x="1477800" y="229716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Cisotto, L. (2011). </a:t>
            </a:r>
            <a:r>
              <a:rPr b="0" i="1" lang="it-IT" sz="1800" spc="-1" strike="noStrike">
                <a:solidFill>
                  <a:srgbClr val="ffffff"/>
                </a:solidFill>
                <a:latin typeface="Century Gothic"/>
              </a:rPr>
              <a:t>Psicopedagogia e didattica: Processi di insegnamento e di apprendimento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Roma: Carocc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Rettangolo 8"/>
          <p:cNvSpPr/>
          <p:nvPr/>
        </p:nvSpPr>
        <p:spPr>
          <a:xfrm>
            <a:off x="1477800" y="3987720"/>
            <a:ext cx="6096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Felisatti, E. &amp; Mazzucco, C. (2013). </a:t>
            </a:r>
            <a:r>
              <a:rPr b="0" i="1" lang="it-IT" sz="1800" spc="-1" strike="noStrike">
                <a:solidFill>
                  <a:srgbClr val="ffffff"/>
                </a:solidFill>
                <a:latin typeface="Century Gothic"/>
              </a:rPr>
              <a:t>Insegnanti in ricerca: Competenze, modelli e strumenti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</a:rPr>
              <a:t>Lecce: Pensa MultiMedia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Rettangolo 9"/>
          <p:cNvSpPr/>
          <p:nvPr/>
        </p:nvSpPr>
        <p:spPr>
          <a:xfrm>
            <a:off x="1477800" y="3273480"/>
            <a:ext cx="6096240" cy="6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-6480" algn="just">
              <a:lnSpc>
                <a:spcPct val="103000"/>
              </a:lnSpc>
              <a:spcAft>
                <a:spcPts val="3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DA RE, Franca</a:t>
            </a:r>
            <a:r>
              <a:rPr b="1" lang="it-IT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, </a:t>
            </a:r>
            <a:r>
              <a:rPr b="0" i="1" lang="it-IT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La didattica per competenze, </a:t>
            </a:r>
            <a:r>
              <a:rPr b="0" lang="it-IT" sz="1800" spc="-1" strike="noStrike">
                <a:solidFill>
                  <a:srgbClr val="ffffff"/>
                </a:solidFill>
                <a:latin typeface="Century Gothic"/>
                <a:ea typeface="Calibri"/>
              </a:rPr>
              <a:t>Pearson, Torino 2013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Century Gothic"/>
              </a:rPr>
              <a:t>Sitografia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73" name="Rettangolo 2"/>
          <p:cNvSpPr/>
          <p:nvPr/>
        </p:nvSpPr>
        <p:spPr>
          <a:xfrm>
            <a:off x="989280" y="1249200"/>
            <a:ext cx="690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http://www.pearson.it/didattica‐competenze‐primo‐ciclo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Rettangolo 3"/>
          <p:cNvSpPr/>
          <p:nvPr/>
        </p:nvSpPr>
        <p:spPr>
          <a:xfrm>
            <a:off x="646200" y="1712880"/>
            <a:ext cx="10613880" cy="4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1120" indent="-6120">
              <a:lnSpc>
                <a:spcPct val="103000"/>
              </a:lnSpc>
              <a:spcAft>
                <a:spcPts val="21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http://www.piazzadellecompetenze.net/index.php?title=La_PIAZZA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Rettangolo 4"/>
          <p:cNvSpPr/>
          <p:nvPr/>
        </p:nvSpPr>
        <p:spPr>
          <a:xfrm>
            <a:off x="765000" y="2314440"/>
            <a:ext cx="976320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  <a:ea typeface="Calibri"/>
              </a:rPr>
              <a:t>http://www.piazzadellecompetenze.net/index.php?title=Formare_persone_ e_cittadini_autonomi_responsabili_resilient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49240" y="229680"/>
            <a:ext cx="9212400" cy="9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Lo scenario di riferimento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68080" y="1092240"/>
            <a:ext cx="11107800" cy="54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Raccomandazione europea sulle competenze chiave (18 dicembre 2006; 22 maggio 2018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Volta a definire un quadro di riferimento europeo per l’individuazione delle competenze chiave per l’apprendimento permanente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D.M.139/2007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Relativo all’obbligo di istruzione, contiene un allegato tecnico dove sono indicate le competenze di base da conseguire a conclusione dell’obbligo scolastico per i quattro assi culturali: dei linguaggi, matematico, scientifico-tecnologico e storico- social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Linee guida  istituti  professionali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 (D.P.R. 15 marzo 2010, n. 87, articolo 8, comma 6)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Assumono pienamente la prospettiva delle competenze, fornendo indicazioni metodologiche e didattiche utili alla progettazione e valutazione per competenz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D.M.9/2010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Certificazione competenze al termine dell’obbligo di istruzione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Competenze chiave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09" name="CasellaDiTesto 3"/>
          <p:cNvSpPr/>
          <p:nvPr/>
        </p:nvSpPr>
        <p:spPr>
          <a:xfrm>
            <a:off x="355680" y="1225440"/>
            <a:ext cx="11341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Le competenze chiave sono quelle enunciate dalla Raccomandazione del 18.12.2006. Rappresentano la finalità dell’istruzio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In esse si possono inscrivere tutte le competenze di base e alla loro formazione concorrono tutte le disciplin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Rappresentano un fattore unificante del curricolo, poiché tutti sono chiamati a perseguirl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Sono interrelate, rappresentando esse stesse i diversi aspetti della competenza, come dimensione della persona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Nelle prime quattro possiamo rintracciare i riferimenti a saperi disciplinari; le ultime quattro sono competenze sociali e civiche, metodologiche e metacognitiv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40428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ffffff"/>
                </a:solidFill>
                <a:latin typeface="Century Gothic"/>
              </a:rPr>
              <a:t>Competenze chiave europee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1104480" y="1452240"/>
            <a:ext cx="894564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1) comunicazione nella madrelingua;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1160" indent="-2811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2) comunicazione nelle lingue straniere;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1160" indent="-2811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3) competenza matematica e competenze di base in scienza e tecnologia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1160" indent="-2811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4) competenza digitale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1160" indent="-2811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5) imparare a imparare;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1160" indent="-2811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6) competenze sociali e civiche;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1160" indent="-2811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7) spirito di iniziativa e imprenditorialità;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281160" indent="-281160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000" spc="-1" strike="noStrike">
                <a:solidFill>
                  <a:srgbClr val="ffffff"/>
                </a:solidFill>
                <a:latin typeface="Century Gothic"/>
              </a:rPr>
              <a:t>8) consapevolezza ed espressione culturale .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46200" y="452160"/>
            <a:ext cx="981072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Le Competenze culturali di base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1103400" y="2052360"/>
            <a:ext cx="9083520" cy="41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Le </a:t>
            </a: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competenze culturali di base </a:t>
            </a: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devono contribuire a costruire le otto competenze chiav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1001"/>
              </a:spcBef>
              <a:buClr>
                <a:srgbClr val="8ad0d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Le competenze culturali e i saperi di base devono essere curati, perché costituiscono il </a:t>
            </a: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fondamento</a:t>
            </a: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 di ogni apprendimento lungo tutto l’arco della vit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46200" y="452160"/>
            <a:ext cx="1006776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Le Competenze culturali di base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45840" y="1284120"/>
            <a:ext cx="9767880" cy="161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Le competenze culturali di base, o specifiche, si riferiscono ai diversi ambiti del sapere e delle disciplin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CasellaDiTesto 3"/>
          <p:cNvSpPr/>
          <p:nvPr/>
        </p:nvSpPr>
        <p:spPr>
          <a:xfrm>
            <a:off x="768240" y="4365720"/>
            <a:ext cx="1036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Sono poch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CasellaDiTesto 4"/>
          <p:cNvSpPr/>
          <p:nvPr/>
        </p:nvSpPr>
        <p:spPr>
          <a:xfrm>
            <a:off x="768240" y="5116680"/>
            <a:ext cx="9945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Restano le stesse nei diversi gradi di scuola, dove possono invece variare le loro articolazioni di abilità e conoscenze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CasellaDiTesto 5"/>
          <p:cNvSpPr/>
          <p:nvPr/>
        </p:nvSpPr>
        <p:spPr>
          <a:xfrm>
            <a:off x="646200" y="2990880"/>
            <a:ext cx="940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Discendono dalla struttura propria della disciplina e quindi non si possono “inventare”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5840" y="452160"/>
            <a:ext cx="9963000" cy="140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800" spc="-1" strike="noStrike">
                <a:solidFill>
                  <a:srgbClr val="ebebeb"/>
                </a:solidFill>
                <a:latin typeface="Century Gothic"/>
              </a:rPr>
              <a:t>Le Competenze culturali di base</a:t>
            </a:r>
            <a:endParaRPr b="0" lang="en-US" sz="48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0" name="CasellaDiTesto 2"/>
          <p:cNvSpPr/>
          <p:nvPr/>
        </p:nvSpPr>
        <p:spPr>
          <a:xfrm>
            <a:off x="531720" y="1378080"/>
            <a:ext cx="10426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Vanno riferite alle competenze chiave più pertinenti (es. le competenze di base della lingua italiana, vanno riferite a “Comunicazione nella madrelingua”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D.M. 139/07 (competenze degli assi culturali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le declin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09760" y="179280"/>
            <a:ext cx="10340640" cy="14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4200" spc="-1" strike="noStrike">
                <a:solidFill>
                  <a:srgbClr val="ebebeb"/>
                </a:solidFill>
                <a:latin typeface="Verdana-Bold"/>
              </a:rPr>
              <a:t>Es: Competenze di base a conclusione dell’ obbligo di istruzione</a:t>
            </a:r>
            <a:endParaRPr b="0" lang="en-US" sz="4200" spc="-1" strike="noStrike">
              <a:solidFill>
                <a:srgbClr val="ebebeb"/>
              </a:solidFill>
              <a:latin typeface="Century Gothic"/>
            </a:endParaRPr>
          </a:p>
        </p:txBody>
      </p:sp>
      <p:sp>
        <p:nvSpPr>
          <p:cNvPr id="222" name="Rettangolo 2"/>
          <p:cNvSpPr/>
          <p:nvPr/>
        </p:nvSpPr>
        <p:spPr>
          <a:xfrm>
            <a:off x="372960" y="1579680"/>
            <a:ext cx="106142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Italiano</a:t>
            </a: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Padronanza della lingua italiana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· </a:t>
            </a: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Padroneggiare gli strumenti espressivi ed argomentativi indispensabili per gestire l’interazione comunicativa verbale in vari contesti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· Leggere, comprendere ed interpretare testi scritti di vario tipo;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entury Gothic"/>
              </a:rPr>
              <a:t>· Produrre testi di vario tipo in relazione ai differenti scopi  Comunicativi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Utilizzare una lingua straniera per i principali scopi comunicativi ed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Operativ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Utilizzare gli strumenti fondamentali per una fruizione consapevol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del patrimonio artistico e letterari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entury Gothic"/>
              </a:rPr>
              <a:t>Utilizzare e produrre testi multimediali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3T10:39:34Z</dcterms:created>
  <dc:creator>luisella lucato</dc:creator>
  <dc:description/>
  <dc:language>en-US</dc:language>
  <cp:lastModifiedBy>luisella lucato</cp:lastModifiedBy>
  <dcterms:modified xsi:type="dcterms:W3CDTF">2018-11-06T13:44:02Z</dcterms:modified>
  <cp:revision>131</cp:revision>
  <dc:subject/>
  <dc:title>SITOGRAFIA</dc:title>
</cp:coreProperties>
</file>