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8819-554F-48D0-91E1-C2815B430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3F33-0FD8-4EDE-8110-7C65DBF9B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3CB40-23B3-4503-8EDD-F01D4585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521F-06CD-4BD9-AC57-8DCBF42C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B1F7A-6EFB-4D81-81AA-32F8A7A0F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4A938-8190-4067-88E2-33C0C3BFA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5FF3-8296-49C8-99B1-8CA464D4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431C4-267B-4DD9-9B44-13CCD09D4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46F48-0C2A-4D75-B6C8-BF756B241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CB2AF-7560-414A-93E0-82FCDC646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9127-8C32-49DB-96AA-4BCBEE6FB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1BD-E41A-4ECD-B0BB-3AF898A45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419C-0BE5-4813-961B-BCFC75CC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5556A-D1DF-4AEA-98E7-2551EEDC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E4B4B-1F61-426E-A993-BEC78CEF4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3155-D018-4378-B9ED-57DF8FBD5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64BEF-F41F-454D-BDFC-35E3FCDCD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296D4-E245-4856-9E4F-201D4CFE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0652A7-7600-486F-97F7-85D5B46E8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5168A4-1005-48CC-BA66-E47203DD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71D796-7484-43F8-9708-FE9430A32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4C37E6-5061-4226-A1CB-F95BD9F4E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98AE-5D4B-4EFF-9DB9-91126D30A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9D812-482C-4B66-97A6-AC7B3DA9A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5062C2-0A4D-4E22-AA00-CFBDD50D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F7FA8D-BB52-4924-91E5-31642453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8C100-D90F-49B2-87F7-A576AE63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7494C-A474-40E4-BF89-4D93066E6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1286B9-5A2D-4E25-B7B4-42241F65CB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096EF1-890A-4A75-9F12-9B94C4C7B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05A77-CD9F-43AC-B2E4-A8D7B7CD6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9F2FC0-24B6-4E0B-842E-0A1DBF52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578F1-5FF5-4669-ABB0-8D808863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2DC2-7932-465E-9498-D307D85F0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05B884-BBCB-4ECD-B6CA-333C7714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9A1EF1-6E1F-474D-91B2-D635C7B8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502A6-E78C-4ED4-B834-085917536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6B8F42-979F-4B95-92B7-B9726105A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D608FD-2098-4A81-8F64-DA60B8BD2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5F356E-81C5-4B3D-ACB9-DC4F5450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B7F83-C1C9-49FD-8B24-B534E07BD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24634-B933-4673-9587-51995ADAC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3211A-0E51-4D84-822E-C45374B99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2B51-D501-4CC0-8682-685579150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E0DD-19CB-4F09-A581-7D60EABA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97D-615D-42A0-A9B5-3D2F030CC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7727-F13A-4802-B194-EA41FF59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438-E9ED-4A53-A3E0-2A7754735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A1AE-8546-468F-805F-14601D907CEC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26F-F715-47E9-8D33-7BB70D8596B6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2853-DAD8-4856-A94F-51DE4DF72E52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1F57-415A-44F8-BC55-4206B0B7C194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matrice%20UDA%20%20progettazione%20a%20ritroso.doc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file:///Esempi%20UDA/ES%20UDA.doc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6000" spc="-1" strike="noStrike">
                <a:solidFill>
                  <a:srgbClr val="ebebeb"/>
                </a:solidFill>
                <a:latin typeface="Century Gothic"/>
              </a:rPr>
              <a:t>PROGETTARE PER COMPETENZE</a:t>
            </a:r>
            <a:br>
              <a:rPr sz="6000"/>
            </a:br>
            <a:endParaRPr b="0" lang="en-US" sz="60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A CURA DI LUISELLA LUCAT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ROGETTAZIONE A RITROS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960480" y="1388880"/>
            <a:ext cx="10515600" cy="259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1 FASE:     Identificare i risultati desiderati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sa gli studenti dovrebbero essere in grado di conoscere,  comprendere e fare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osa è meritevole di essere compreso in profondità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Century Gothic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Quali comprensioni solide e durevoli si desiderano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Rettangolo 3"/>
          <p:cNvSpPr/>
          <p:nvPr/>
        </p:nvSpPr>
        <p:spPr>
          <a:xfrm>
            <a:off x="960480" y="3835440"/>
            <a:ext cx="97772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Generalmente ci troviamo di fronte ad una quantità di contenuti superiore a quella che generalmente si riesce a svolger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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siamo obbligati a compiere delle scelte…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1792440" y="6008760"/>
            <a:ext cx="7416720" cy="368280"/>
          </a:xfrm>
          <a:prstGeom prst="rect">
            <a:avLst/>
          </a:prstGeom>
          <a:solidFill>
            <a:srgbClr val="0070c0">
              <a:alpha val="39000"/>
            </a:srgbClr>
          </a:solidFill>
          <a:ln w="9360">
            <a:solidFill>
              <a:srgbClr val="b015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  <a:ea typeface="Arial"/>
              </a:rPr>
              <a:t>STABILIRE LE PRIORITA’ CURRICOLAR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1" name=""/>
          <p:cNvGraphicFramePr/>
          <p:nvPr/>
        </p:nvGraphicFramePr>
        <p:xfrm>
          <a:off x="109440" y="0"/>
          <a:ext cx="12082680" cy="8478720"/>
        </p:xfrm>
        <a:graphic>
          <a:graphicData uri="http://schemas.openxmlformats.org/drawingml/2006/table">
            <a:tbl>
              <a:tblPr/>
              <a:tblGrid>
                <a:gridCol w="2060640"/>
                <a:gridCol w="2468520"/>
                <a:gridCol w="2562480"/>
                <a:gridCol w="2428560"/>
                <a:gridCol w="2562480"/>
              </a:tblGrid>
              <a:tr h="326520">
                <a:tc gridSpan="5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 LINGUIS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56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50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ENZ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INGUISTIC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ENZ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CSE – PIS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iteracy letterari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NZ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BILITA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DICATORI DI PRESTAZIONE PER LA VALUTAZIONE DEGLI ESI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</a:tr>
              <a:tr h="684720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eggere, comprendere ed interpretare testi scritti di vario tipo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dividuare informazion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rendere il significato generale di un tes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viluppare un’interpretazio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flettere sul contenuto del testo e valutarl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flettere sulla forma del testo e valutarl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 le informazioni principal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 la struttura dei testi prop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 elementi caratterizzanti i testi propos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eggere un testo in modo corret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rendere il significato essenziale di un testo let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eggere in modalità silenziosa testi di varia natura e provenienza applicando tecniche di supporto alla comprensione: sottolineature, note a margine, appunti…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formulare in modo sintetico le informazioni selezionate da un testo e riorganizzarle in modo personale : liste di argomenti, riassunti schematici, mappe, tabelle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0" y="1590840"/>
          <a:ext cx="12082320" cy="5267160"/>
        </p:xfrm>
        <a:graphic>
          <a:graphicData uri="http://schemas.openxmlformats.org/drawingml/2006/table">
            <a:tbl>
              <a:tblPr/>
              <a:tblGrid>
                <a:gridCol w="2060640"/>
                <a:gridCol w="2468520"/>
                <a:gridCol w="2562120"/>
                <a:gridCol w="2428920"/>
                <a:gridCol w="2562120"/>
              </a:tblGrid>
              <a:tr h="5267160"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durre testi di vario tipo in relazione ai differenti scopi comunicativ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dividuare informazion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rendere il significato generale di un tes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viluppare un’interpretazion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flettere sul contenuto del testo e valutarl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iflettere sulla forma del testo e valutarla.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 regole e modelli per la produzione di testi differen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 i meccanismi per realizzare mappe e schem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Produrre un testo di tipo narrativo, descrittivo, espositivo e regolativo semplic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alizzare e produrre: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sti ridot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Testi amplia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nnotazioni e appun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chemi e mapp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re e applicare le procedure di ideazione, pianificazione, stesura e revisione del test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crivere testi corretti dal punto di vista ortografico, morfosintattic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7e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0" y="0"/>
          <a:ext cx="12082320" cy="1808280"/>
        </p:xfrm>
        <a:graphic>
          <a:graphicData uri="http://schemas.openxmlformats.org/drawingml/2006/table">
            <a:tbl>
              <a:tblPr/>
              <a:tblGrid>
                <a:gridCol w="2060640"/>
                <a:gridCol w="2468520"/>
                <a:gridCol w="2562120"/>
                <a:gridCol w="2428920"/>
                <a:gridCol w="2562120"/>
              </a:tblGrid>
              <a:tr h="503280">
                <a:tc gridSpan="5"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 LINGUISTIC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d565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05000"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ENZ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SS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INGUISTICO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MPETENZ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OCSE – PIS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Literacy letteraria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OSCENZ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BILITA’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  <a:tc>
                  <a:txBody>
                    <a:bodyPr lIns="49680" rIns="4968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DICATORI DI PRESTAZIONE PER LA VALUTAZIONE DEGLI ESITI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Century Gothic"/>
                      </a:endParaRPr>
                    </a:p>
                  </a:txBody>
                  <a:tcPr anchor="t" marL="49680" marR="496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8f8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ttangolo 2"/>
          <p:cNvSpPr/>
          <p:nvPr/>
        </p:nvSpPr>
        <p:spPr>
          <a:xfrm>
            <a:off x="3048120" y="318276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ROGETTAZIONE A RITROS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733320" y="150624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2^ FASE: Determinare evidenze di accettabilità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Rettangolo 6"/>
          <p:cNvSpPr/>
          <p:nvPr/>
        </p:nvSpPr>
        <p:spPr>
          <a:xfrm>
            <a:off x="733320" y="2235240"/>
            <a:ext cx="10647360" cy="45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Come sapremo se gli studenti hanno raggiunto i risultati desiderati e soddisfatto gli standard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Cosa accetteremo come evidenze della comprensione e della padronanza elevata degli studenti?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Le evidenze della comprensione sono i dati che si raccolgono attraverso varie forme di accertamento e di valutazione formale e inform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Immagine 3" descr=""/>
          <p:cNvPicPr/>
          <p:nvPr/>
        </p:nvPicPr>
        <p:blipFill>
          <a:blip r:embed="rId1"/>
          <a:stretch/>
        </p:blipFill>
        <p:spPr>
          <a:xfrm>
            <a:off x="1467000" y="1574640"/>
            <a:ext cx="9134280" cy="5283360"/>
          </a:xfrm>
          <a:prstGeom prst="rect">
            <a:avLst/>
          </a:prstGeom>
          <a:ln w="0">
            <a:noFill/>
          </a:ln>
        </p:spPr>
      </p:pic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03000" y="174240"/>
            <a:ext cx="105375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Determinare le evidenze di accettabilità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ttangolo 2"/>
          <p:cNvSpPr/>
          <p:nvPr/>
        </p:nvSpPr>
        <p:spPr>
          <a:xfrm>
            <a:off x="3048120" y="3182760"/>
            <a:ext cx="60958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ROGETTAZIONE A RITROS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64760" y="1152360"/>
            <a:ext cx="11326680" cy="435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3^ FASE: Pianificare esperienze di apprendimento e insegnamento (attività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3" name="Rettangolo 6"/>
          <p:cNvSpPr/>
          <p:nvPr/>
        </p:nvSpPr>
        <p:spPr>
          <a:xfrm>
            <a:off x="465120" y="2098800"/>
            <a:ext cx="11182320" cy="49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Di quali conoscenze (fatti concetti e principi) e abilità (procedure) fondamentali avranno bisogno gli studenti per realizzare efficacemente ciò che è richiesto e raggiungere gli obiettivi desiderati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Quali attività forniranno agli studenti le conoscenze e le abilità necessari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Cosa sarà necessario insegnare e sostenere attraverso il coaching, e qual è il modo migliore di insegnarlo alla luce degli scopi di prestazion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Quali scelte metodologiche attuare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Quali sono i materiali e le risorse più adatte per realizzare tali scopi?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34920" y="3510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’UNITA’ DI APPRENDIMENT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838080" y="1825200"/>
            <a:ext cx="107078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L’unità di apprendimento è uno strumento didattico che  induce il docente ad andare al di là dell’organizzazione ed esposizione dei contenuti disciplinari, selezionando le attività, che riguarderanno di volta in volta specifici contenuti e obiettivi, secondo una sequenza che rispetti quella dei processi di apprendimento, ottimizzando così l’efficacia di tutto il lavoro, di alunni e insegnanti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26640" y="177444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FORMAT PER LA REDAZIONE DELL’UdA </a:t>
            </a:r>
            <a:br>
              <a:rPr sz="4200"/>
            </a:br>
            <a:br>
              <a:rPr sz="4200"/>
            </a:br>
            <a:r>
              <a:rPr b="0" lang="it-IT" sz="4200" spc="-1" strike="noStrike">
                <a:solidFill>
                  <a:srgbClr val="ebebeb"/>
                </a:solidFill>
                <a:latin typeface="Century Gothic"/>
              </a:rPr>
              <a:t>secondo il modello della </a:t>
            </a:r>
            <a:r>
              <a:rPr b="0" lang="it-IT" sz="42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progettazione a ritros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ESEMPIO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 u="sng">
                <a:solidFill>
                  <a:srgbClr val="58c1ba"/>
                </a:solidFill>
                <a:uFillTx/>
                <a:latin typeface="Century Gothic"/>
                <a:hlinkClick r:id="rId1"/>
              </a:rPr>
              <a:t> Uda:      </a:t>
            </a: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La nuova officin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L’INSEGNANTE COME PROGETTISTA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03040" y="1533240"/>
            <a:ext cx="98139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Un atto essenziale della nostra professione è la </a:t>
            </a:r>
            <a:r>
              <a:rPr b="1" lang="it-IT" sz="3700" spc="-1" strike="noStrike">
                <a:solidFill>
                  <a:srgbClr val="ffffff"/>
                </a:solidFill>
                <a:latin typeface="Century Gothic"/>
              </a:rPr>
              <a:t>progettazione del curricolo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,</a:t>
            </a:r>
            <a:r>
              <a:rPr b="1" lang="it-IT" sz="3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cioè</a:t>
            </a:r>
            <a:r>
              <a:rPr b="1" lang="it-IT" sz="37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delle esperienze di apprendimento che rispondano a determinate finalità e degli </a:t>
            </a:r>
            <a:r>
              <a:rPr b="1" lang="it-IT" sz="3700" spc="-1" strike="noStrike">
                <a:solidFill>
                  <a:srgbClr val="ffffff"/>
                </a:solidFill>
                <a:latin typeface="Century Gothic"/>
              </a:rPr>
              <a:t>strumenti di accertamento e di valutazione 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per diagnosticare i bisogni degli studenti e per stabilire se i risultati sono stati raggiunti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80800" y="477720"/>
            <a:ext cx="94042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ROBLEM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1350720"/>
            <a:ext cx="12055320" cy="511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Come fa un docente a strutturare il curricolo della propria disciplina e a stabilire quali sono le competenze, le abilità e le conoscenze che una disciplina deve sviluppare?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0" lang="it-IT" sz="3900" spc="-1" strike="noStrike">
                <a:solidFill>
                  <a:srgbClr val="ffffff"/>
                </a:solidFill>
                <a:latin typeface="Century Gothic"/>
              </a:rPr>
              <a:t>C</a:t>
            </a:r>
            <a:r>
              <a:rPr b="0" lang="it-IT" sz="3700" spc="-1" strike="noStrike">
                <a:solidFill>
                  <a:srgbClr val="ffffff"/>
                </a:solidFill>
                <a:latin typeface="Century Gothic"/>
              </a:rPr>
              <a:t>osa progettare per sviluppare apprendimento? </a:t>
            </a: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7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20480" y="325440"/>
            <a:ext cx="940572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UNA PROPOST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03400" y="2052360"/>
            <a:ext cx="98107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100" spc="-1" strike="noStrike">
                <a:solidFill>
                  <a:srgbClr val="ffffff"/>
                </a:solidFill>
                <a:latin typeface="Century Gothic"/>
              </a:rPr>
              <a:t>IL MODELLO DI PROGETTAZIONE A RITROSO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4100" spc="-1" strike="noStrike">
                <a:solidFill>
                  <a:srgbClr val="ffffff"/>
                </a:solidFill>
                <a:latin typeface="Century Gothic"/>
              </a:rPr>
              <a:t>di G. Wiggins e J.McTighe</a:t>
            </a: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1900" spc="-1" strike="noStrike">
                <a:solidFill>
                  <a:srgbClr val="ffffff"/>
                </a:solidFill>
                <a:latin typeface="Century Gothic"/>
              </a:rPr>
              <a:t>PEDAGOGISTI, STUDIOSI DELL’APPRENDIMENTO SIGNIFICATIVO E DELLA COMPRENSIONE PROFONDA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PERCHÈ È PIÙ EFFICACE?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379080" y="1468080"/>
            <a:ext cx="11533320" cy="63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Perché, anziché creare strumenti di verifica e di valutazione quasi alla conclusione di una unità di apprendimento, la progettazione a ritroso ci chiede di operazionalizzare i nostri scopi, o gli standard in termini di evidenze di accertamento quando noi cominciamo a costruire l’unità. 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3880" y="255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CIOE’</a:t>
            </a:r>
            <a:br>
              <a:rPr sz="4200"/>
            </a:b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09680" y="1430280"/>
            <a:ext cx="1094400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Ci ricorda di iniziare dalla domanda: “Cosa potremmo accettare come prove che gli studenti hanno raggiunto le comprensioni desiderate e la padronanza elevata?”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Poi segue la pianificazione di esperienze di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insegnamento e di apprendimento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VANTAGGI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Scopi da perseguire più chiari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Obiettivi di apprendimento e insegnamento più chiari per docenti e studenti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Risultati desiderati, prestazioni fondamentali, esperienze di insegnamento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100" spc="-1" strike="noStrike">
                <a:solidFill>
                  <a:srgbClr val="ffffff"/>
                </a:solidFill>
                <a:latin typeface="Century Gothic"/>
              </a:rPr>
              <a:t>più coerenti tra loro , quindi </a:t>
            </a:r>
            <a:r>
              <a:rPr b="1" lang="it-IT" sz="3100" spc="-1" strike="noStrike">
                <a:solidFill>
                  <a:srgbClr val="ffffff"/>
                </a:solidFill>
                <a:latin typeface="Century Gothic"/>
              </a:rPr>
              <a:t>Migliori prestazioni</a:t>
            </a: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1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Immagine 1" descr=""/>
          <p:cNvPicPr/>
          <p:nvPr/>
        </p:nvPicPr>
        <p:blipFill>
          <a:blip r:embed="rId1"/>
          <a:stretch/>
        </p:blipFill>
        <p:spPr>
          <a:xfrm>
            <a:off x="1336680" y="345960"/>
            <a:ext cx="8975880" cy="630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7406"/>
          <p:cNvGrpSpPr/>
          <p:nvPr/>
        </p:nvGrpSpPr>
        <p:grpSpPr>
          <a:xfrm>
            <a:off x="473040" y="281160"/>
            <a:ext cx="11812680" cy="6454440"/>
            <a:chOff x="473040" y="281160"/>
            <a:chExt cx="11812680" cy="6454440"/>
          </a:xfrm>
        </p:grpSpPr>
        <p:sp>
          <p:nvSpPr>
            <p:cNvPr id="218" name="Shape 217"/>
            <p:cNvSpPr/>
            <p:nvPr/>
          </p:nvSpPr>
          <p:spPr>
            <a:xfrm>
              <a:off x="782280" y="1258920"/>
              <a:ext cx="6372360" cy="5476680"/>
            </a:xfrm>
            <a:custGeom>
              <a:avLst/>
              <a:gdLst>
                <a:gd name="textAreaLeft" fmla="*/ 0 w 6372360"/>
                <a:gd name="textAreaRight" fmla="*/ 6372720 w 6372360"/>
                <a:gd name="textAreaTop" fmla="*/ 0 h 5476680"/>
                <a:gd name="textAreaBottom" fmla="*/ 5477040 h 5476680"/>
              </a:gdLst>
              <a:ahLst/>
              <a:rect l="textAreaLeft" t="textAreaTop" r="textAreaRight" b="textAreaBottom"/>
              <a:pathLst>
                <a:path w="5761101" h="5040313">
                  <a:moveTo>
                    <a:pt x="2880487" y="0"/>
                  </a:moveTo>
                  <a:cubicBezTo>
                    <a:pt x="4471416" y="0"/>
                    <a:pt x="5761101" y="1128268"/>
                    <a:pt x="5761101" y="2520188"/>
                  </a:cubicBezTo>
                  <a:cubicBezTo>
                    <a:pt x="5761101" y="3911981"/>
                    <a:pt x="4471416" y="5040313"/>
                    <a:pt x="2880487" y="5040313"/>
                  </a:cubicBezTo>
                  <a:cubicBezTo>
                    <a:pt x="1289685" y="5040313"/>
                    <a:pt x="0" y="3911981"/>
                    <a:pt x="0" y="2520188"/>
                  </a:cubicBezTo>
                  <a:cubicBezTo>
                    <a:pt x="0" y="1128268"/>
                    <a:pt x="1289685" y="0"/>
                    <a:pt x="2880487" y="0"/>
                  </a:cubicBezTo>
                  <a:close/>
                </a:path>
              </a:pathLst>
            </a:custGeom>
            <a:solidFill>
              <a:srgbClr val="00ffff">
                <a:alpha val="6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19" name="Shape 218"/>
            <p:cNvSpPr/>
            <p:nvPr/>
          </p:nvSpPr>
          <p:spPr>
            <a:xfrm>
              <a:off x="782280" y="1258920"/>
              <a:ext cx="6350040" cy="5476680"/>
            </a:xfrm>
            <a:custGeom>
              <a:avLst/>
              <a:gdLst>
                <a:gd name="textAreaLeft" fmla="*/ 0 w 6350040"/>
                <a:gd name="textAreaRight" fmla="*/ 6350400 w 6350040"/>
                <a:gd name="textAreaTop" fmla="*/ 0 h 5476680"/>
                <a:gd name="textAreaBottom" fmla="*/ 5477040 h 5476680"/>
              </a:gdLst>
              <a:ahLst/>
              <a:rect l="textAreaLeft" t="textAreaTop" r="textAreaRight" b="textAreaBottom"/>
              <a:pathLst>
                <a:path w="5761101" h="5040313">
                  <a:moveTo>
                    <a:pt x="0" y="2520188"/>
                  </a:moveTo>
                  <a:cubicBezTo>
                    <a:pt x="0" y="1128268"/>
                    <a:pt x="1289685" y="0"/>
                    <a:pt x="2880487" y="0"/>
                  </a:cubicBezTo>
                  <a:cubicBezTo>
                    <a:pt x="4471416" y="0"/>
                    <a:pt x="5761101" y="1128268"/>
                    <a:pt x="5761101" y="2520188"/>
                  </a:cubicBezTo>
                  <a:cubicBezTo>
                    <a:pt x="5761101" y="3911981"/>
                    <a:pt x="4471416" y="5040313"/>
                    <a:pt x="2880487" y="5040313"/>
                  </a:cubicBezTo>
                  <a:cubicBezTo>
                    <a:pt x="1289685" y="5040313"/>
                    <a:pt x="0" y="3911981"/>
                    <a:pt x="0" y="252018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0" name="Shape 219"/>
            <p:cNvSpPr/>
            <p:nvPr/>
          </p:nvSpPr>
          <p:spPr>
            <a:xfrm>
              <a:off x="1742760" y="2627280"/>
              <a:ext cx="4354560" cy="4036680"/>
            </a:xfrm>
            <a:custGeom>
              <a:avLst/>
              <a:gdLst>
                <a:gd name="textAreaLeft" fmla="*/ 0 w 4354560"/>
                <a:gd name="textAreaRight" fmla="*/ 4354920 w 4354560"/>
                <a:gd name="textAreaTop" fmla="*/ 0 h 4036680"/>
                <a:gd name="textAreaBottom" fmla="*/ 4037040 h 4036680"/>
              </a:gdLst>
              <a:ahLst/>
              <a:rect l="textAreaLeft" t="textAreaTop" r="textAreaRight" b="textAreaBottom"/>
              <a:pathLst>
                <a:path w="3951859" h="3714039">
                  <a:moveTo>
                    <a:pt x="1975993" y="0"/>
                  </a:moveTo>
                  <a:cubicBezTo>
                    <a:pt x="3067304" y="0"/>
                    <a:pt x="3951859" y="831342"/>
                    <a:pt x="3951859" y="1856994"/>
                  </a:cubicBezTo>
                  <a:cubicBezTo>
                    <a:pt x="3951859" y="2882646"/>
                    <a:pt x="3067304" y="3714039"/>
                    <a:pt x="1975993" y="3714039"/>
                  </a:cubicBezTo>
                  <a:cubicBezTo>
                    <a:pt x="884682" y="3714039"/>
                    <a:pt x="0" y="2882646"/>
                    <a:pt x="0" y="1856994"/>
                  </a:cubicBezTo>
                  <a:cubicBezTo>
                    <a:pt x="0" y="831342"/>
                    <a:pt x="884682" y="0"/>
                    <a:pt x="1975993" y="0"/>
                  </a:cubicBezTo>
                  <a:close/>
                </a:path>
              </a:pathLst>
            </a:custGeom>
            <a:solidFill>
              <a:srgbClr val="ff9900">
                <a:alpha val="6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1" name="Shape 220"/>
            <p:cNvSpPr/>
            <p:nvPr/>
          </p:nvSpPr>
          <p:spPr>
            <a:xfrm>
              <a:off x="1742760" y="2627280"/>
              <a:ext cx="4354560" cy="4036680"/>
            </a:xfrm>
            <a:custGeom>
              <a:avLst/>
              <a:gdLst>
                <a:gd name="textAreaLeft" fmla="*/ 0 w 4354560"/>
                <a:gd name="textAreaRight" fmla="*/ 4354920 w 4354560"/>
                <a:gd name="textAreaTop" fmla="*/ 0 h 4036680"/>
                <a:gd name="textAreaBottom" fmla="*/ 4037040 h 4036680"/>
              </a:gdLst>
              <a:ahLst/>
              <a:rect l="textAreaLeft" t="textAreaTop" r="textAreaRight" b="textAreaBottom"/>
              <a:pathLst>
                <a:path w="3951859" h="3714039">
                  <a:moveTo>
                    <a:pt x="0" y="1856994"/>
                  </a:moveTo>
                  <a:cubicBezTo>
                    <a:pt x="0" y="831342"/>
                    <a:pt x="884682" y="0"/>
                    <a:pt x="1975993" y="0"/>
                  </a:cubicBezTo>
                  <a:cubicBezTo>
                    <a:pt x="3067304" y="0"/>
                    <a:pt x="3951859" y="831342"/>
                    <a:pt x="3951859" y="1856994"/>
                  </a:cubicBezTo>
                  <a:cubicBezTo>
                    <a:pt x="3951859" y="2882646"/>
                    <a:pt x="3067304" y="3714039"/>
                    <a:pt x="1975993" y="3714039"/>
                  </a:cubicBezTo>
                  <a:cubicBezTo>
                    <a:pt x="884682" y="3714039"/>
                    <a:pt x="0" y="2882646"/>
                    <a:pt x="0" y="1856994"/>
                  </a:cubicBezTo>
                  <a:close/>
                </a:path>
              </a:pathLst>
            </a:custGeom>
            <a:noFill/>
            <a:ln w="936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2" name="Shape 221"/>
            <p:cNvSpPr/>
            <p:nvPr/>
          </p:nvSpPr>
          <p:spPr>
            <a:xfrm>
              <a:off x="2408040" y="4037040"/>
              <a:ext cx="2950920" cy="2643120"/>
            </a:xfrm>
            <a:custGeom>
              <a:avLst/>
              <a:gdLst>
                <a:gd name="textAreaLeft" fmla="*/ 0 w 2950920"/>
                <a:gd name="textAreaRight" fmla="*/ 2951280 w 29509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677414" h="2431733">
                  <a:moveTo>
                    <a:pt x="1338707" y="0"/>
                  </a:moveTo>
                  <a:cubicBezTo>
                    <a:pt x="2078101" y="0"/>
                    <a:pt x="2677414" y="544449"/>
                    <a:pt x="2677414" y="1215898"/>
                  </a:cubicBezTo>
                  <a:cubicBezTo>
                    <a:pt x="2677414" y="1887385"/>
                    <a:pt x="2078101" y="2431733"/>
                    <a:pt x="1338707" y="2431733"/>
                  </a:cubicBezTo>
                  <a:cubicBezTo>
                    <a:pt x="599313" y="2431733"/>
                    <a:pt x="0" y="1887385"/>
                    <a:pt x="0" y="1215898"/>
                  </a:cubicBezTo>
                  <a:cubicBezTo>
                    <a:pt x="0" y="544449"/>
                    <a:pt x="599313" y="0"/>
                    <a:pt x="1338707" y="0"/>
                  </a:cubicBez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3" name="Shape 222"/>
            <p:cNvSpPr/>
            <p:nvPr/>
          </p:nvSpPr>
          <p:spPr>
            <a:xfrm>
              <a:off x="2408040" y="4037040"/>
              <a:ext cx="2950920" cy="2643120"/>
            </a:xfrm>
            <a:custGeom>
              <a:avLst/>
              <a:gdLst>
                <a:gd name="textAreaLeft" fmla="*/ 0 w 2950920"/>
                <a:gd name="textAreaRight" fmla="*/ 2951280 w 2950920"/>
                <a:gd name="textAreaTop" fmla="*/ 0 h 2643120"/>
                <a:gd name="textAreaBottom" fmla="*/ 2643480 h 2643120"/>
              </a:gdLst>
              <a:ahLst/>
              <a:rect l="textAreaLeft" t="textAreaTop" r="textAreaRight" b="textAreaBottom"/>
              <a:pathLst>
                <a:path w="2677414" h="2431733">
                  <a:moveTo>
                    <a:pt x="0" y="1215898"/>
                  </a:moveTo>
                  <a:cubicBezTo>
                    <a:pt x="0" y="544449"/>
                    <a:pt x="599313" y="0"/>
                    <a:pt x="1338707" y="0"/>
                  </a:cubicBezTo>
                  <a:cubicBezTo>
                    <a:pt x="2078101" y="0"/>
                    <a:pt x="2677414" y="544449"/>
                    <a:pt x="2677414" y="1215898"/>
                  </a:cubicBezTo>
                  <a:cubicBezTo>
                    <a:pt x="2677414" y="1887385"/>
                    <a:pt x="2078101" y="2431733"/>
                    <a:pt x="1338707" y="2431733"/>
                  </a:cubicBezTo>
                  <a:cubicBezTo>
                    <a:pt x="599313" y="2431733"/>
                    <a:pt x="0" y="1887385"/>
                    <a:pt x="0" y="1215898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4" name="Rectangle 223"/>
            <p:cNvSpPr/>
            <p:nvPr/>
          </p:nvSpPr>
          <p:spPr>
            <a:xfrm>
              <a:off x="2941920" y="4484160"/>
              <a:ext cx="9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5" name="Rectangle 224"/>
            <p:cNvSpPr/>
            <p:nvPr/>
          </p:nvSpPr>
          <p:spPr>
            <a:xfrm>
              <a:off x="2941920" y="4782600"/>
              <a:ext cx="2290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PRENSIO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6" name="Rectangle 225"/>
            <p:cNvSpPr/>
            <p:nvPr/>
          </p:nvSpPr>
          <p:spPr>
            <a:xfrm>
              <a:off x="2941920" y="5080680"/>
              <a:ext cx="249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NE DUREVOLE/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7" name="Rectangle 226"/>
            <p:cNvSpPr/>
            <p:nvPr/>
          </p:nvSpPr>
          <p:spPr>
            <a:xfrm>
              <a:off x="4818240" y="5080680"/>
              <a:ext cx="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8" name="Rectangle 227"/>
            <p:cNvSpPr/>
            <p:nvPr/>
          </p:nvSpPr>
          <p:spPr>
            <a:xfrm>
              <a:off x="2941920" y="5378760"/>
              <a:ext cx="23266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MANENT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29" name="Rectangle 228"/>
            <p:cNvSpPr/>
            <p:nvPr/>
          </p:nvSpPr>
          <p:spPr>
            <a:xfrm>
              <a:off x="4692240" y="5378760"/>
              <a:ext cx="9288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0" name="Rectangle 229"/>
            <p:cNvSpPr/>
            <p:nvPr/>
          </p:nvSpPr>
          <p:spPr>
            <a:xfrm>
              <a:off x="2941920" y="5677560"/>
              <a:ext cx="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1" name="Rectangle 230"/>
            <p:cNvSpPr/>
            <p:nvPr/>
          </p:nvSpPr>
          <p:spPr>
            <a:xfrm>
              <a:off x="2941920" y="5975280"/>
              <a:ext cx="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2" name="Rectangle 231"/>
            <p:cNvSpPr/>
            <p:nvPr/>
          </p:nvSpPr>
          <p:spPr>
            <a:xfrm>
              <a:off x="2787480" y="3281760"/>
              <a:ext cx="277884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IMPORTANTE DA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3" name="Rectangle 232"/>
            <p:cNvSpPr/>
            <p:nvPr/>
          </p:nvSpPr>
          <p:spPr>
            <a:xfrm>
              <a:off x="2787480" y="3579840"/>
              <a:ext cx="3027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CONOSCERE E PER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4" name="Rectangle 233"/>
            <p:cNvSpPr/>
            <p:nvPr/>
          </p:nvSpPr>
          <p:spPr>
            <a:xfrm>
              <a:off x="2787480" y="3877920"/>
              <a:ext cx="793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FA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5" name="Rectangle 234"/>
            <p:cNvSpPr/>
            <p:nvPr/>
          </p:nvSpPr>
          <p:spPr>
            <a:xfrm>
              <a:off x="3384000" y="3877920"/>
              <a:ext cx="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6" name="Rectangle 235"/>
            <p:cNvSpPr/>
            <p:nvPr/>
          </p:nvSpPr>
          <p:spPr>
            <a:xfrm>
              <a:off x="2787480" y="1823040"/>
              <a:ext cx="234720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NE MERITA LA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7" name="Rectangle 236"/>
            <p:cNvSpPr/>
            <p:nvPr/>
          </p:nvSpPr>
          <p:spPr>
            <a:xfrm>
              <a:off x="2787480" y="2121480"/>
              <a:ext cx="212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FAMILIARITA’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8" name="Rectangle 237"/>
            <p:cNvSpPr/>
            <p:nvPr/>
          </p:nvSpPr>
          <p:spPr>
            <a:xfrm>
              <a:off x="4383360" y="2121480"/>
              <a:ext cx="8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Constantia"/>
                  <a:ea typeface="Constanti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9" name="Rectangle 238"/>
            <p:cNvSpPr/>
            <p:nvPr/>
          </p:nvSpPr>
          <p:spPr>
            <a:xfrm>
              <a:off x="473040" y="281160"/>
              <a:ext cx="1181268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 algn="ctr"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ffffff"/>
                  </a:solidFill>
                  <a:latin typeface="Calibri Light"/>
                  <a:ea typeface="Calibri"/>
                </a:rPr>
                <a:t>STABILIRE PRIORITA’ CURRICULARI</a:t>
              </a:r>
              <a:endParaRPr b="0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0" name="Rectangle 239"/>
            <p:cNvSpPr/>
            <p:nvPr/>
          </p:nvSpPr>
          <p:spPr>
            <a:xfrm>
              <a:off x="9768600" y="307800"/>
              <a:ext cx="176760" cy="99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5400" spc="-1" strike="noStrike">
                  <a:solidFill>
                    <a:srgbClr val="262626"/>
                  </a:solidFill>
                  <a:latin typeface="Impact"/>
                  <a:ea typeface="Impact"/>
                </a:rPr>
                <a:t> </a:t>
              </a:r>
              <a:endParaRPr b="0" lang="en-US" sz="5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1" name="Rectangle 242"/>
            <p:cNvSpPr/>
            <p:nvPr/>
          </p:nvSpPr>
          <p:spPr>
            <a:xfrm>
              <a:off x="7154280" y="1326600"/>
              <a:ext cx="305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2" name="Rectangle 243"/>
            <p:cNvSpPr/>
            <p:nvPr/>
          </p:nvSpPr>
          <p:spPr>
            <a:xfrm>
              <a:off x="7154280" y="1624680"/>
              <a:ext cx="202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3" name="Rectangle 244"/>
            <p:cNvSpPr/>
            <p:nvPr/>
          </p:nvSpPr>
          <p:spPr>
            <a:xfrm>
              <a:off x="8680320" y="1624680"/>
              <a:ext cx="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4" name="Rectangle 247"/>
            <p:cNvSpPr/>
            <p:nvPr/>
          </p:nvSpPr>
          <p:spPr>
            <a:xfrm>
              <a:off x="7954920" y="3233880"/>
              <a:ext cx="3279600" cy="135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325948"/>
                  </a:solidFill>
                  <a:latin typeface="Arial"/>
                  <a:ea typeface="Arial"/>
                </a:rPr>
                <a:t>Conoscenze a abilità  senza le quali l’apprendimento non sarebbe completo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5" name="Rectangle 248"/>
            <p:cNvSpPr/>
            <p:nvPr/>
          </p:nvSpPr>
          <p:spPr>
            <a:xfrm>
              <a:off x="7511040" y="3789720"/>
              <a:ext cx="3027600" cy="36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6" name="Rectangle 249"/>
            <p:cNvSpPr/>
            <p:nvPr/>
          </p:nvSpPr>
          <p:spPr>
            <a:xfrm>
              <a:off x="7514280" y="4089240"/>
              <a:ext cx="3132000" cy="31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99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7" name="Rectangle 250"/>
            <p:cNvSpPr/>
            <p:nvPr/>
          </p:nvSpPr>
          <p:spPr>
            <a:xfrm>
              <a:off x="7476840" y="4467240"/>
              <a:ext cx="267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8" name="Rectangle 251"/>
            <p:cNvSpPr/>
            <p:nvPr/>
          </p:nvSpPr>
          <p:spPr>
            <a:xfrm>
              <a:off x="8921160" y="4412880"/>
              <a:ext cx="9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9" name="Rectangle 254"/>
            <p:cNvSpPr/>
            <p:nvPr/>
          </p:nvSpPr>
          <p:spPr>
            <a:xfrm>
              <a:off x="6959520" y="5632560"/>
              <a:ext cx="2063880" cy="413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50" name="Rectangle 255"/>
            <p:cNvSpPr/>
            <p:nvPr/>
          </p:nvSpPr>
          <p:spPr>
            <a:xfrm>
              <a:off x="6915960" y="5931000"/>
              <a:ext cx="266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51" name="Rectangle 256"/>
            <p:cNvSpPr/>
            <p:nvPr/>
          </p:nvSpPr>
          <p:spPr>
            <a:xfrm>
              <a:off x="6915960" y="6229080"/>
              <a:ext cx="112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rmAutofit/>
            </a:bodyPr>
            <a:p>
              <a:pPr>
                <a:lnSpc>
                  <a:spcPct val="107000"/>
                </a:lnSpc>
                <a:spcAft>
                  <a:spcPts val="7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252" name="Rettangolo 49"/>
          <p:cNvSpPr/>
          <p:nvPr/>
        </p:nvSpPr>
        <p:spPr>
          <a:xfrm>
            <a:off x="7012080" y="1279440"/>
            <a:ext cx="60958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4100e"/>
                </a:solidFill>
                <a:latin typeface="Arial"/>
              </a:rPr>
              <a:t>Durante lo svolgimento dell’unità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4100e"/>
                </a:solidFill>
                <a:latin typeface="Arial"/>
              </a:rPr>
              <a:t>cosa vogliamo che gli student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4100e"/>
                </a:solidFill>
                <a:latin typeface="Arial"/>
              </a:rPr>
              <a:t>ascoltino, leggano, vedano,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84100e"/>
                </a:solidFill>
                <a:latin typeface="Arial"/>
              </a:rPr>
              <a:t>ricerchino o incontrino?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Rettangolo 51"/>
          <p:cNvSpPr/>
          <p:nvPr/>
        </p:nvSpPr>
        <p:spPr>
          <a:xfrm>
            <a:off x="7130880" y="5423040"/>
            <a:ext cx="4632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Grandi idee a fondamento della disciplina. Vi fanno riferimento 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c00000"/>
                </a:solidFill>
                <a:latin typeface="Arial"/>
              </a:rPr>
              <a:t>Competenze culturali di bas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4" name="Freccia a destra 1"/>
          <p:cNvSpPr/>
          <p:nvPr/>
        </p:nvSpPr>
        <p:spPr>
          <a:xfrm rot="10800000">
            <a:off x="5930640" y="3981600"/>
            <a:ext cx="1601640" cy="28728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Freccia a destra 41"/>
          <p:cNvSpPr/>
          <p:nvPr/>
        </p:nvSpPr>
        <p:spPr>
          <a:xfrm rot="10800000">
            <a:off x="5192640" y="6102360"/>
            <a:ext cx="1602000" cy="287280"/>
          </a:xfrm>
          <a:prstGeom prst="rightArrow">
            <a:avLst>
              <a:gd name="adj1" fmla="val 50000"/>
              <a:gd name="adj2" fmla="val 50007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Freccia a destra 42"/>
          <p:cNvSpPr/>
          <p:nvPr/>
        </p:nvSpPr>
        <p:spPr>
          <a:xfrm flipV="1" rot="10800000">
            <a:off x="5472000" y="1619280"/>
            <a:ext cx="1386000" cy="272880"/>
          </a:xfrm>
          <a:prstGeom prst="rightArrow">
            <a:avLst>
              <a:gd name="adj1" fmla="val 50000"/>
              <a:gd name="adj2" fmla="val 50039"/>
            </a:avLst>
          </a:prstGeom>
          <a:solidFill>
            <a:srgbClr val="b01513"/>
          </a:solidFill>
          <a:ln cap="rnd" w="19080">
            <a:solidFill>
              <a:srgbClr val="800c0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6T07:39:05Z</dcterms:created>
  <dc:creator>luisella lucato</dc:creator>
  <dc:description/>
  <dc:language>en-US</dc:language>
  <cp:lastModifiedBy>luisella lucato</cp:lastModifiedBy>
  <dcterms:modified xsi:type="dcterms:W3CDTF">2018-11-06T14:06:27Z</dcterms:modified>
  <cp:revision>43</cp:revision>
  <dc:subject/>
  <dc:title>L’INSEGNANTE COME PROGETTISTA</dc:title>
</cp:coreProperties>
</file>